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FE3-B025-47B6-82C7-56DE3142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732-B0F3-44CF-B91C-B39DE8AB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FEA-5E82-4435-8918-BAB1282B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C15-EF61-4482-B5FF-22CD1574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E1CF-FDEE-4164-9255-02313278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ED17-B518-4731-BE8A-ECB0FD93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3F54-D154-4707-87AB-2950151E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E9BF-54BE-4AA9-AB1D-5AC5C1FD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2307-015A-4D63-9BB0-4FE74FD3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9888-0473-43C6-9706-914C83A0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89CD-60B5-4886-A956-AD063CC0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D7F1-08A5-4900-AA33-1047D848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B2BF-84F8-4E2B-8B77-0896D98D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E1B7-71A2-4615-87EF-A3F7B0E4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3BDC-793A-404E-97F3-4D6A679F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B5AE-61E4-4B7A-847C-AA3DD79F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3393-84D5-4703-B239-04E9B078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39D-D924-4C8E-A9E7-EA9DCCAD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942-E892-4EC7-ADC3-7A459C07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FAC-1C5F-4FA3-9380-07134954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5AF-7555-4683-9B95-06B83725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4FD4-AB6F-41DE-8001-7C718630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6B6-134F-42F0-819E-7D43CA73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33AE-009F-4D04-B9B8-9498614B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140C-2068-423B-AE26-11F8E1F698EA}" type="slidenum">
              <a:rPr b="0" lang="fr-C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1207-9A84-407A-9B0D-783574BC18F9}" type="slidenum">
              <a:rPr b="0" lang="fr-C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148428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aheuristic Approaches for 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olving the Fixed-Charge Capacitated Multi-commodity Network Design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640" y="3962520"/>
            <a:ext cx="662472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chel Gend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IRRELT and D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iversité de Montré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IS, Universita degli studi di Bolog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ologna </a:t>
            </a:r>
            <a:r>
              <a:rPr b="0" lang="fr-CA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June 6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Linear Path-based Formulation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00000" y="1341360"/>
          <a:ext cx="721224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41360"/>
                    <a:ext cx="7212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580000" y="5445000"/>
          <a:ext cx="1832040" cy="6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5445000"/>
                    <a:ext cx="183204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 flipH="1" flipV="1">
            <a:off x="0" y="645480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669960" indent="-325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195640" y="5445000"/>
          <a:ext cx="1877760" cy="6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5445000"/>
                    <a:ext cx="18777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7B3-9A9F-48DB-9BE1-236F96DC42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Difficult Problem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Fixed costs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 Capac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Multiple commodity pa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Difficult (and degenerate) flow sub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Large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Large instances must be solved with heu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B4EC-3FDD-42DC-8FA1-A50547BF4C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Early Heuristic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Classical heuristic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eedy approa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d/drop” approa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rc sw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Good for location, bad for desig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We must come up with better idea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25C-DC7E-4FCE-89C2-D488C545F5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Tabu Search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posed by Glover (1986), it is one of the most effective metaheuristic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S can be seen as a generalization/extension of classical local search (improvement) method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“current” solution is slowly modified with the goal of ultimately finding a very good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The value of the objective function is allow to degrade to escape local op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term memory mechanisms prevent cyc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er-term memories are used to guide the search in the solution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1C5-BB5F-4F56-BEF8-AF4C07A3A7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Tabu Search Template</a:t>
            </a:r>
            <a:r>
              <a:rPr b="0" lang="fr-CA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ild an initial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best non-tabu solution in the neighborhood of the current 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st known solution and value (if appropria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rt, medium and long-term mem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e stopping criterion: go to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n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ver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70B-43B6-4C67-8E4A-6CE31F2E4D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Tabu Search Key Features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1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Intensif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re thorough exploration of areas of the search space that have been identified as “promising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based on medium-term memories, e.g., </a:t>
            </a:r>
            <a:r>
              <a:rPr b="0" lang="en-US" sz="2800" spc="-1" strike="noStrike">
                <a:solidFill>
                  <a:srgbClr val="006633"/>
                </a:solidFill>
                <a:latin typeface="Times New Roman"/>
              </a:rPr>
              <a:t>recenc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involves “freezing” some components of the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984-D977-4073-9FB7-2EA634D69C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Tabu Search Key Features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2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Diversification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ced move to unexplored areas of the search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based on long-term memories, e.g., </a:t>
            </a:r>
            <a:r>
              <a:rPr b="0" lang="en-US" sz="2800" spc="-1" strike="noStrike">
                <a:solidFill>
                  <a:srgbClr val="006633"/>
                </a:solidFill>
                <a:latin typeface="Times New Roman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implemented as a separate phase or in a continuous fash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any implementations, the most important feature besides the basic local 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F8F-346F-4F25-A2F2-4F42ADF233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Failed Tabu Search Approach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pplying TS with </a:t>
            </a:r>
            <a:r>
              <a:rPr b="0" lang="en-US" sz="3000" spc="-1" strike="noStrike">
                <a:solidFill>
                  <a:srgbClr val="006633"/>
                </a:solidFill>
                <a:latin typeface="Times New Roman"/>
              </a:rPr>
              <a:t>“add/drop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000" spc="-1" strike="noStrike">
                <a:solidFill>
                  <a:srgbClr val="006633"/>
                </a:solidFill>
                <a:latin typeface="Times New Roman"/>
              </a:rPr>
              <a:t>“swap”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ighborhoo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neighborhoods are too limited to lead to a purposeful local search of the solution sp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n TS cannot help her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208-217D-4795-A3C1-FC02BDEEEF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Path-based Tabu Search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1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14716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ainic, Gendreau and Farvolden (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pproach based on a </a:t>
            </a:r>
            <a:r>
              <a:rPr b="0" lang="en-US" sz="2600" spc="-1" strike="noStrike">
                <a:solidFill>
                  <a:srgbClr val="006633"/>
                </a:solidFill>
                <a:latin typeface="Times New Roman"/>
              </a:rPr>
              <a:t>fixed co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vision of the probl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key variables are the commodity flow variables; the design variables are simply obtained from flow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neighborhood used relies on the  path-based formulation of the probl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cal search moves correspond to </a:t>
            </a:r>
            <a:r>
              <a:rPr b="0" lang="en-US" sz="2600" spc="-1" strike="noStrike">
                <a:solidFill>
                  <a:srgbClr val="cc9900"/>
                </a:solidFill>
                <a:latin typeface="Times New Roman"/>
              </a:rPr>
              <a:t>pivot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e</a:t>
            </a:r>
            <a:r>
              <a:rPr b="0" lang="en-US" sz="26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th-based formulation of the multi-commodity network flow problem in which all arcs are op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xed costs of arcs with positive flow are added to the cost of the so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A70-0E24-4BE2-B175-3A36552C7B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Path-based Tabu Search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2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having to consider all possible paths, column generation is used to create the path flow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umn generation is invoked only when a local optimum w.r.t. to the paths already gener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xed costs are linearized when solving the column generation subprobl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s are implemented by forbidding paths that have exited the basis to go back into it for a </a:t>
            </a: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mber of it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fication is invoked after a set number of column generation phases without improvement of the obj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fication is induced by </a:t>
            </a:r>
            <a:r>
              <a:rPr b="0" lang="en-US" sz="2400" spc="-1" strike="noStrike">
                <a:solidFill>
                  <a:srgbClr val="006633"/>
                </a:solidFill>
                <a:latin typeface="Times New Roman"/>
              </a:rPr>
              <a:t>clo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mall subset of often-used arcs for so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E30-F106-482F-972E-D9AD8ABF69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With</a:t>
            </a:r>
            <a:r>
              <a:rPr b="0" lang="fr-CA" sz="4400" spc="-1" strike="noStrike">
                <a:solidFill>
                  <a:srgbClr val="006633"/>
                </a:solidFill>
                <a:latin typeface="Garamond"/>
              </a:rPr>
              <a:t> the help of …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eodor Gabriel Crai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Judy Farvol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lfat Ghamlou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viève Her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several others</a:t>
            </a:r>
            <a:r>
              <a:rPr b="0" lang="fr-CA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1414-ABAB-4E2B-B5F5-1555FBF490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Path-based Tabu Search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3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thod was tested on sets of instances hav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etween 20 and 100 node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etween 100 and 700 arc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etween 10 and 400 commoditie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ifferent fixed to variable costs ratio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oose or tight capacity constrai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 assess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method worked fine and was at the time the best available one by far, but some questions remained with respect to its performance on the larger instances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5E8-BBA2-4FFC-BFE0-0AE54A0577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Cycle-based Tabu Search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1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353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th-based TS had some limit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way the neighborhood was defined implied that we only considered flow modifications of a single commodity at the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o myopic for instances with several commodi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neighborhood structures were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ent back to a search based on design variables (</a:t>
            </a:r>
            <a:r>
              <a:rPr b="0" i="1" lang="en-US" sz="2800" spc="-1" strike="noStrike">
                <a:solidFill>
                  <a:srgbClr val="cc99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se variables completely define a solution, if one solves the associated minimum cost flow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 by Ghamlouche, Crainic and Gendreau 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531-C751-4587-B545-A43ADF873A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Cycle-based Neighborhood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8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network design problem, in order to significantly modify a solution, one must be able to open and close sequences of arcs that make up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subpath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movements take place along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cyc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residual grap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 neighborhood is based on the identification of cycles in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residual graphs of a given capac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llows for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signific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ifications of the current solution at each it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arcs / several products simultaneous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350-5BA4-479B-BEB9-EEE8795DA5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Cycles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11280" y="1700280"/>
          <a:ext cx="770580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77058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E0C-2035-4932-A728-CB968988A2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ycle-based</a:t>
            </a: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 Tabu Search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2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353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 each iteration, the cycle-based neighborhood is partially examined by considering sets of candidates arcs as starting points for creating cyc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labeling heuristic is used to identify low cost cycles containing a given ar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ach solution, once the cycle has been identified, the flow pattern is adjusted by solving exactly the associated MCNF probl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easible solutions may be found because commodities are aggregated in the determination of the best cycle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cc9900"/>
                </a:solidFill>
                <a:latin typeface="Times New Roman"/>
              </a:rPr>
              <a:t>restoration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ight be need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irly simple search strateg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nsification is invoked when very good solutions are obta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ed by modifying the flows of individual commod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ple stopping criteria (elapsed CPU time or number of itera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6F3-650A-49AB-B35E-6F58343D58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ycle-based</a:t>
            </a: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 Tabu Search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3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353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method was tested on the same sets of instances as the path-based 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cycle-based TS outperformed the path-based one on 34 out of 43 instanc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-based was better only on 9 of the smaller, “easy” instances that can be solved optimally using B&amp;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timality gap on instances with high fixed costs was reduced drama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E5E-6A95-4E16-940F-17FBF675DD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6633"/>
                </a:solidFill>
                <a:latin typeface="Garamond"/>
              </a:rPr>
              <a:t>Path Relinking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136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technique proposed by Gl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plore in the solution space trajectories that link good known solutions with the objective of finding even better ones   (intensification concep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good” (or “elite”) solutions to be provided must be provided by some other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 between the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divers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solutions consi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79B5-C9AA-4E93-9E8A-29FFBECAA5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ath Relinking for Network Design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(1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136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 by Ghamlouche, Crainic and Gendreau (200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based on the cycle-based 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tested several strategies for building the </a:t>
            </a:r>
            <a:r>
              <a:rPr b="0" lang="en-US" sz="2800" spc="-1" strike="noStrike">
                <a:solidFill>
                  <a:srgbClr val="006633"/>
                </a:solidFill>
                <a:latin typeface="Times New Roman"/>
              </a:rPr>
              <a:t>reference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olutions to be considered and for selecting the initial and guiding the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ini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gui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lutions of traject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jectories are explored using the one-commodity-at-the-time variant of the cycle-based neighbor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FCE9-C50B-45E5-B162-F37045DDD2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ath Relinking for Network Design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(2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8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on the same instances as the other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Excellen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th relinking improves the best solutions found by the cycle-based method for 37 instances out of 41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bably the best heuristic currently available for the capacitated, multi-commodity network design probl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6EA-7854-45A9-BDEA-D6D5E228508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Path Relinking for Network Design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136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 by Ghamlouche, Crainic and Gendreau (200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based on the cycle-based 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tested several strategies for building the </a:t>
            </a:r>
            <a:r>
              <a:rPr b="0" lang="en-US" sz="2800" spc="-1" strike="noStrike">
                <a:solidFill>
                  <a:srgbClr val="006633"/>
                </a:solidFill>
                <a:latin typeface="Times New Roman"/>
              </a:rPr>
              <a:t>reference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olutions to be considered and for selecting the initial and guiding the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ini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gui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lutions of traject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jectories are explored using the one-commodity-at-the-time variant of the cycle-based neighbor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3C7C-C497-467C-A844-E6D8DE62B0C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twork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initions, formulations, the need for heur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arly Heu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th-based Tabu 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ycle-based Tabu 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th Reli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catter 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2E1-59CD-4FFF-B219-EC7BC18B02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Scatter Search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42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technique proposed by Glover (1977) for combining good known solutions for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de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nearly combine vectors describing solu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 to explore the space of the (binary) design variabl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ow can this concept be applied?!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6F7-D689-4A08-A501-E953985DDA4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6633"/>
                </a:solidFill>
                <a:latin typeface="Garamond"/>
              </a:rPr>
              <a:t>Scatter Search Template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42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 an initial population of </a:t>
            </a:r>
            <a:r>
              <a:rPr b="0" lang="en-US" sz="2600" spc="-1" strike="noStrike">
                <a:solidFill>
                  <a:srgbClr val="006633"/>
                </a:solidFill>
                <a:latin typeface="Times New Roman"/>
              </a:rPr>
              <a:t>diver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600" spc="-1" strike="noStrike">
                <a:solidFill>
                  <a:srgbClr val="006633"/>
                </a:solidFill>
                <a:latin typeface="Times New Roman"/>
              </a:rPr>
              <a:t>goo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olu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ect a subset = </a:t>
            </a:r>
            <a:r>
              <a:rPr b="0" lang="en-US" sz="2600" spc="-1" strike="noStrike">
                <a:solidFill>
                  <a:srgbClr val="006633"/>
                </a:solidFill>
                <a:latin typeface="Times New Roman"/>
              </a:rPr>
              <a:t>Reference Set (RS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ract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olutions from RS = </a:t>
            </a:r>
            <a:r>
              <a:rPr b="0" lang="en-US" sz="2600" spc="-1" strike="noStrike">
                <a:solidFill>
                  <a:srgbClr val="006633"/>
                </a:solidFill>
                <a:latin typeface="Times New Roman"/>
              </a:rPr>
              <a:t>Candidate Set (CS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eate new solutions by combining solutions in 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99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cc9900"/>
                </a:solidFill>
                <a:latin typeface="Times New Roman"/>
              </a:rPr>
              <a:t>Feasibilit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rove the new solu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pdate the Reference S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499-ECC2-4359-80F7-AF14EA23B9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6633"/>
                </a:solidFill>
                <a:latin typeface="Garamond"/>
              </a:rPr>
              <a:t>Scatter Search for Network Design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42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 by Crainic and Gendreau (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 to explore the space of the (binary) design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we apply the basic SS concepts ?!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bine solutions by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rou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me variables and fixing them to set values and letting others be f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8DE-3B7D-48FD-B6E9-BA7F539F21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33"/>
                </a:solidFill>
                <a:latin typeface="Garamond"/>
              </a:rPr>
              <a:t>Initialization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olutions generated by Cycle-based tabu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ference Set initialized with improving local optima, i.e., local optima better than solutions already in 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didate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est solution in 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solution farthest away from it (Hamming dis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andomly selected solu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96A8-A5C9-4B6F-AB08-0B8FF7CE9CD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33"/>
                </a:solidFill>
                <a:latin typeface="Garamond"/>
              </a:rPr>
              <a:t>Creating a Solution (2)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Two thresholds are associated with arc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e new solu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ose arc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pen arc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c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undecided w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191120" y="4194000"/>
          <a:ext cx="144612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194000"/>
                    <a:ext cx="14461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044880" y="2193840"/>
          <a:ext cx="1949400" cy="5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4880" y="2193840"/>
                    <a:ext cx="19494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267080" y="3659040"/>
          <a:ext cx="148428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659040"/>
                    <a:ext cx="1484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334120" y="4727520"/>
          <a:ext cx="1565280" cy="51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4727520"/>
                    <a:ext cx="1565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692-5029-4BE8-A033-CE197A1161F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33"/>
                </a:solidFill>
                <a:latin typeface="Garamond"/>
              </a:rPr>
              <a:t>Creating a Solution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solutions in a</a:t>
            </a:r>
            <a:r>
              <a:rPr b="0" i="1" lang="en-C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Candidate S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Compute a </a:t>
            </a:r>
            <a:r>
              <a:rPr b="0" lang="en-CA" sz="2600" spc="-1" strike="noStrike">
                <a:solidFill>
                  <a:srgbClr val="cc9900"/>
                </a:solidFill>
                <a:latin typeface="Times New Roman"/>
              </a:rPr>
              <a:t>desirability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factor for arc </a:t>
            </a:r>
            <a:r>
              <a:rPr b="0" i="1" lang="en-CA" sz="2600" spc="-1" strike="noStrike">
                <a:solidFill>
                  <a:srgbClr val="000000"/>
                </a:solidFill>
                <a:latin typeface="Times New Roman"/>
              </a:rPr>
              <a:t>(i, j) 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weight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particular to each mechanis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301760" y="2901960"/>
          <a:ext cx="56689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1760" y="2901960"/>
                    <a:ext cx="5668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2971800" y="3751200"/>
          <a:ext cx="153972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751200"/>
                    <a:ext cx="15397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DE1-4CEA-45B9-8B20-43B3EB354F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Combination Mechanism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Times New Roman"/>
              </a:rPr>
              <a:t>Voting </a:t>
            </a:r>
            <a:r>
              <a:rPr b="0" lang="en-US" sz="26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3b812f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8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CA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CA" sz="2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= 1 for all </a:t>
            </a:r>
            <a:r>
              <a:rPr b="0" i="1" lang="en-CA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Times New Roman"/>
              </a:rPr>
              <a:t>Distance</a:t>
            </a:r>
            <a:r>
              <a:rPr b="0" i="1" lang="en-US" sz="2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3b812f"/>
                </a:solidFill>
                <a:latin typeface="Times New Roman"/>
              </a:rPr>
              <a:t>H</a:t>
            </a:r>
            <a:r>
              <a:rPr b="0" lang="en-US" sz="2600" spc="-1" strike="noStrike">
                <a:solidFill>
                  <a:srgbClr val="008000"/>
                </a:solidFill>
                <a:latin typeface="Times New Roman"/>
              </a:rPr>
              <a:t>):</a:t>
            </a:r>
            <a:r>
              <a:rPr b="0" i="1" lang="en-US" sz="2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en-CA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CA" sz="2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= 1 / (Hamming distance between solution </a:t>
            </a:r>
            <a:r>
              <a:rPr b="0" i="1" lang="en-CA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and best solu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Times New Roman"/>
              </a:rPr>
              <a:t>Cost</a:t>
            </a:r>
            <a:r>
              <a:rPr b="0" i="1" lang="en-US" sz="2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3b812f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8000"/>
                </a:solidFill>
                <a:latin typeface="Times New Roman"/>
              </a:rPr>
              <a:t>): </a:t>
            </a:r>
            <a:r>
              <a:rPr b="0" i="1" lang="en-CA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CA" sz="2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= 1 / (cost difference between solution </a:t>
            </a:r>
            <a:r>
              <a:rPr b="0" i="1" lang="en-CA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and best solu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Times New Roman"/>
              </a:rPr>
              <a:t>Frequency</a:t>
            </a:r>
            <a:r>
              <a:rPr b="0" i="1" lang="en-US" sz="2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3b812f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8000"/>
                </a:solidFill>
                <a:latin typeface="Times New Roman"/>
              </a:rPr>
              <a:t>): </a:t>
            </a:r>
            <a:r>
              <a:rPr b="0" i="1" lang="en-CA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CA" sz="2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CA" sz="2600" spc="-1" strike="noStrike">
                <a:solidFill>
                  <a:srgbClr val="008000"/>
                </a:solidFill>
                <a:latin typeface="Times New Roman"/>
              </a:rPr>
              <a:t>frequency of arc </a:t>
            </a:r>
            <a:r>
              <a:rPr b="0" i="1" lang="en-CA" sz="2600" spc="-1" strike="noStrike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en-CA" sz="2600" spc="-1" strike="noStrike">
                <a:solidFill>
                  <a:srgbClr val="008000"/>
                </a:solidFill>
                <a:latin typeface="Times New Roman"/>
              </a:rPr>
              <a:t> in best sol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7CA1-C5E0-4EB4-A93C-10144130F9B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33"/>
                </a:solidFill>
                <a:latin typeface="Garamond"/>
              </a:rPr>
              <a:t>Processing a Solution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incomplete solution obtained from the combination operation is first sent to CPLEX wit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losed arcs are given a 0 capa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decided arcs are given a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CA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i="1" lang="en-CA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i="1" lang="en-CA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variable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buCycle is launched from the resulting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procedure includes a </a:t>
            </a:r>
            <a:r>
              <a:rPr b="0" lang="en-CA" sz="2400" spc="-1" strike="noStrike">
                <a:solidFill>
                  <a:srgbClr val="006633"/>
                </a:solidFill>
                <a:latin typeface="Times New Roman"/>
              </a:rPr>
              <a:t>mending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phase for unfeasible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CA" sz="2400" spc="-1" strike="noStrike">
                <a:solidFill>
                  <a:srgbClr val="cc9900"/>
                </a:solidFill>
                <a:latin typeface="Times New Roman"/>
              </a:rPr>
              <a:t>intensification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phase (moves involving a single commodity) may be called from the resulting solution before starting the tabu search pro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966-412B-4279-9AA1-5939F061C19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33"/>
                </a:solidFill>
                <a:latin typeface="Garamond"/>
              </a:rPr>
              <a:t>Preliminary</a:t>
            </a:r>
            <a:r>
              <a:rPr b="1" lang="en-CA" sz="4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CA" sz="4400" spc="-1" strike="noStrike">
                <a:solidFill>
                  <a:srgbClr val="006633"/>
                </a:solidFill>
                <a:latin typeface="Garamond"/>
              </a:rPr>
              <a:t>Computational Testing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Tests conducted on a small (10) subset of probl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Experiment with 2 different values for </a:t>
            </a:r>
            <a:r>
              <a:rPr b="0" i="1" lang="en-CA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CA" sz="2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CA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CA" sz="2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0.25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0.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0.40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0.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FDA-AAEA-4EAB-B5E4-D2C9470159F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33"/>
                </a:solidFill>
                <a:latin typeface="Garamond"/>
              </a:rPr>
              <a:t>Preliminary Computational Testing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Tests conducted on a small (10) subset of probl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Experiment with 2 different values for </a:t>
            </a:r>
            <a:r>
              <a:rPr b="0" i="1" lang="en-CA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CA" sz="2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CA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CA" sz="2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0.25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0.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9900"/>
                </a:solidFill>
                <a:latin typeface="Times New Roman"/>
              </a:rPr>
              <a:t>t</a:t>
            </a:r>
            <a:r>
              <a:rPr b="0" i="1" lang="en-US" sz="2200" spc="-1" strike="noStrike" baseline="-25000">
                <a:solidFill>
                  <a:srgbClr val="cc99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cc9900"/>
                </a:solidFill>
                <a:latin typeface="Times New Roman"/>
              </a:rPr>
              <a:t> = 0.40,</a:t>
            </a:r>
            <a:r>
              <a:rPr b="0" i="1" lang="en-US" sz="2200" spc="-1" strike="noStrike">
                <a:solidFill>
                  <a:srgbClr val="cc9900"/>
                </a:solidFill>
                <a:latin typeface="Times New Roman"/>
              </a:rPr>
              <a:t> t</a:t>
            </a:r>
            <a:r>
              <a:rPr b="0" i="1" lang="en-US" sz="2200" spc="-1" strike="noStrike" baseline="-25000">
                <a:solidFill>
                  <a:srgbClr val="cc9900"/>
                </a:solidFill>
                <a:latin typeface="Times New Roman"/>
              </a:rPr>
              <a:t>o</a:t>
            </a:r>
            <a:r>
              <a:rPr b="0" lang="en-US" sz="2200" spc="-1" strike="noStrike">
                <a:solidFill>
                  <a:srgbClr val="cc9900"/>
                </a:solidFill>
                <a:latin typeface="Times New Roman"/>
              </a:rPr>
              <a:t>= 0.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cc9900"/>
                </a:solidFill>
                <a:latin typeface="Times New Roman"/>
              </a:rPr>
              <a:t>All further experiments ran with these val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2CC-AEF8-4408-A5D6-CDA66F4C6DD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Network Design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Existing + possible ad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Cos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Capac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Determine what part of the possible network to include to satisfy demand at minimum total c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A62-35B4-4B69-802E-72A76CBD1B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Experiment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t of 43 problem inst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0 to 100 n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0 to 700 ar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fixed to variable cost rat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capacity to demand rat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 combination mechani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 Candidate Set cardinality values = 2,3,4,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nsify or not at the start of Tabu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sizes for the Reference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e tabu search parameters used for path relink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443-F716-445B-9D92-465262A2341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mparisons to Path Relinking (Gaps in %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09480" y="1447920"/>
          <a:ext cx="9342720" cy="44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934272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019-CC8D-4EA0-BB6F-327040E209E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33"/>
                </a:solidFill>
                <a:latin typeface="Garamond"/>
              </a:rPr>
              <a:t>Result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Results with </a:t>
            </a:r>
            <a:r>
              <a:rPr b="0" i="1" lang="en-CA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= 2 are not competi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Results obtained with less than 20 elements in the reference set are significantly poor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BB6-FFFB-471F-8BBF-C61A60AF5A6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33"/>
                </a:solidFill>
                <a:latin typeface="Garamond"/>
              </a:rPr>
              <a:t>Discussion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All combinations are capable of producing solutions better than those obtained with Path Relinking on </a:t>
            </a:r>
            <a:r>
              <a:rPr b="0" lang="en-CA" sz="2600" spc="-1" strike="noStrike">
                <a:solidFill>
                  <a:srgbClr val="cc9900"/>
                </a:solidFill>
                <a:latin typeface="Times New Roman"/>
              </a:rPr>
              <a:t>some instances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On average, no combination can beat PR, but the best ones are getting clo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Difficult to discriminate between inclusion or not of Intensification phase; since it requires computing effort, one may eventually abandon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It seems that </a:t>
            </a:r>
            <a:r>
              <a:rPr b="0" i="1" lang="en-CA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= 3 or 4 is suffici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EDB-407E-40D0-B9C4-42E01C79774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33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We have a large set of approaches for tackling network design probl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The best one currently is probably Path Relinking, but one might possibly be able to still improve upon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Future work: attack </a:t>
            </a:r>
            <a:r>
              <a:rPr b="0" lang="en-CA" sz="2600" spc="-1" strike="noStrike">
                <a:solidFill>
                  <a:srgbClr val="cc9900"/>
                </a:solidFill>
                <a:latin typeface="Times New Roman"/>
              </a:rPr>
              <a:t>stochastic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network design probl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5D3D-982B-48B5-BD08-1C6404F8DF9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Network Design Problem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Decisions on ad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des: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rcs: Network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pacity: Network dimensioning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Cos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xed costs (to install/open/offer/use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ariable costs (to ope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dget constraint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Single or multi-commod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Capacitated or not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D56-0579-4B8A-A14B-43C70A9589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Network Design Problem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Decisions on ad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des: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rcs: </a:t>
            </a:r>
            <a:r>
              <a:rPr b="0" lang="en-CA" sz="2400" spc="-1" strike="noStrike">
                <a:solidFill>
                  <a:srgbClr val="006633"/>
                </a:solidFill>
                <a:latin typeface="Times New Roman"/>
              </a:rPr>
              <a:t>Network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pacity: Network dimensioning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Cos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9900"/>
                </a:solidFill>
                <a:latin typeface="Times New Roman"/>
              </a:rPr>
              <a:t>Fixed costs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(to install/open/offer/use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9900"/>
                </a:solidFill>
                <a:latin typeface="Times New Roman"/>
              </a:rPr>
              <a:t>Variable costs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(to ope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dget constraint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Single or </a:t>
            </a:r>
            <a:r>
              <a:rPr b="0" lang="en-CA" sz="2600" spc="-1" strike="noStrike">
                <a:solidFill>
                  <a:srgbClr val="cc9900"/>
                </a:solidFill>
                <a:latin typeface="Times New Roman"/>
              </a:rPr>
              <a:t>multi-commod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cc9900"/>
                </a:solidFill>
                <a:latin typeface="Times New Roman"/>
              </a:rPr>
              <a:t>Capacitated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or not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F9E-0165-4368-A954-798AFFBEA5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Linear Arc-based Formulation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16000" y="1557360"/>
          <a:ext cx="6603840" cy="43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57360"/>
                    <a:ext cx="660384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0E49-E2DE-463A-9EC6-E58DAE9071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Flow Subproblem for given</a:t>
            </a:r>
            <a:r>
              <a:rPr b="0" lang="fr-CA" sz="4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i="1" lang="fr-CA" sz="4400" spc="-1" strike="noStrike">
                <a:solidFill>
                  <a:srgbClr val="006633"/>
                </a:solidFill>
                <a:latin typeface="Garamond"/>
              </a:rPr>
              <a:t>y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258920" y="1700280"/>
          <a:ext cx="6377040" cy="33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00280"/>
                    <a:ext cx="637704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1A5-8587-4357-AF23-BDF6CE592D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Flow Subproblem for given</a:t>
            </a:r>
            <a:r>
              <a:rPr b="0" lang="fr-CA" sz="4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i="1" lang="fr-CA" sz="4400" spc="-1" strike="noStrike">
                <a:solidFill>
                  <a:srgbClr val="006633"/>
                </a:solidFill>
                <a:latin typeface="Garamond"/>
              </a:rPr>
              <a:t>y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58920" y="1700280"/>
          <a:ext cx="6377040" cy="33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00280"/>
                    <a:ext cx="637704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68360" y="5445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9960" indent="-325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Times New Roman"/>
              </a:rPr>
              <a:t>Capacitated, multi-commodity network flow proble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IS, Bologna  - June 6,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838-0F33-45F2-B0A8-68BD7F0AB4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1:30Z</dcterms:created>
  <dc:creator>crt</dc:creator>
  <dc:description/>
  <dc:language>en-US</dc:language>
  <cp:lastModifiedBy>gendreau</cp:lastModifiedBy>
  <dcterms:modified xsi:type="dcterms:W3CDTF">2008-06-05T08:40:12Z</dcterms:modified>
  <cp:revision>33</cp:revision>
  <dc:subject/>
  <dc:title>Diapositive 1</dc:title>
</cp:coreProperties>
</file>