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841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837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837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84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84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84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841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—————————  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CACI Products Company  ——————————————————————————————  SimScript II.5  ——————————————   10-</a:t>
            </a:r>
            <a:fld id="{6E62D9C0-3B2C-4A8F-A883-6C8579122F49}" type="slidenum"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y 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720" y="1523520"/>
            <a:ext cx="6324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ion 9 - Contiuous Sim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rcise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ion 10 - Ani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monstration of SIMANI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rcise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523880" y="3276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Routine SET.GRAPH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''  Set maximum speed to 1 second of real time per unit of simulated tim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  Let timescale.v = 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''  Open a view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Let vxform.v =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    Call setworld.r(0, 3277, 0, 227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 Call setview.r (0, 32767, 0, 32755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End ''SET.GRAPH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ercise 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roach to Run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:\Program Files\Simscript3\models\Heath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eathrow Airport Repris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a final exercise in simulation and modeling, write a SIMSCRIPT II.5 program to animate the flight of an airplane on its approach to Heathrow airport.  The checkpoints through which the airplane must pass are listed belo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HROW  APPROACH  CHECK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-1     (initial loc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Pream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''  Heathrow Airpot Animation Problem - CACI Products Compa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''  Preliminary Code for Student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''  The user must create an icon representing an airplane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''  write a process to make the airplane mo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''  files: HEATHROW.SRC, graphics.sg2 with lhw.icn &amp; (user).ic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Normally mode is undefin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emporary entities inclu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MAP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Graphic entities inclu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MAP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efine ..DISPLAY.VIEW.PORT to mean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efine minute  to mean un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efine minutes to mean un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End ''Pream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M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Create a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isplay MAP with "LHW.ICN"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End ''M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Routine V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Giv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X1,            ''Coordinates of first poi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Y1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X2,            ''Coordinates of second poi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Y2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SPEED          ''Speed of objec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Yiel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TIME,          ''Time to go from first to second poi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DIRECTION      ''Direction from first to second point (radians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efine .X1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Y1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X2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Y2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SPEE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TIM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DIRECTI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DELTA.X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DELTA.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as real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Let .DELTA.X = .X2 - .X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Let .DELTA.Y = .Y2 - .Y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Let .TIME = sqrt.f(.DELTA.X ** 2 + .DELTA.Y ** 2) / .SP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Let .DIRECTION = arctan.f(.DELTA.Y, .DELTA.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End ''V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Routine SET.GRAPH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Let timescale.v = 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''  Set up a display view 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Let vxform.v = ..DISPLAY.VIEW.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Call setworld.r (-11, 11, -11, 1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Call setview.r  (1000, 32000, 1000, 3200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End ''SET.GRAPH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page is intentionally blank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10 - Anima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 - Demonstration of SIMANI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mAnimation's Concept - Toward Object Oriented Programming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 an object with a process routine - say an airpl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it some characteristics - location, velo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h routines for specific procedures - move to new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oke routine by wai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Processes to Control Mo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 velocity,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it some time to let object m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e something, say velo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it some more time for object to move a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graphic process is a temporary entity with          motion attributes added (i.e. Dynamic Graphic Ent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me Definition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1143000"/>
            <a:ext cx="8458200" cy="5029200"/>
            <a:chOff x="380880" y="1143000"/>
            <a:chExt cx="8458200" cy="5029200"/>
          </a:xfrm>
        </p:grpSpPr>
        <p:sp>
          <p:nvSpPr>
            <p:cNvPr id="50" name=""/>
            <p:cNvSpPr/>
            <p:nvPr/>
          </p:nvSpPr>
          <p:spPr>
            <a:xfrm>
              <a:off x="380880" y="1143000"/>
              <a:ext cx="8458200" cy="502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73160" y="3075120"/>
              <a:ext cx="2970360" cy="1425600"/>
            </a:xfrm>
            <a:custGeom>
              <a:avLst/>
              <a:gdLst/>
              <a:ahLst/>
              <a:rect l="l" t="t" r="r" b="b"/>
              <a:pathLst>
                <a:path w="7483" h="3592">
                  <a:moveTo>
                    <a:pt x="7483" y="1794"/>
                  </a:moveTo>
                  <a:lnTo>
                    <a:pt x="7482" y="1752"/>
                  </a:lnTo>
                  <a:lnTo>
                    <a:pt x="7479" y="1710"/>
                  </a:lnTo>
                  <a:lnTo>
                    <a:pt x="7473" y="1668"/>
                  </a:lnTo>
                  <a:lnTo>
                    <a:pt x="7466" y="1627"/>
                  </a:lnTo>
                  <a:lnTo>
                    <a:pt x="7457" y="1585"/>
                  </a:lnTo>
                  <a:lnTo>
                    <a:pt x="7446" y="1544"/>
                  </a:lnTo>
                  <a:lnTo>
                    <a:pt x="7433" y="1502"/>
                  </a:lnTo>
                  <a:lnTo>
                    <a:pt x="7418" y="1462"/>
                  </a:lnTo>
                  <a:lnTo>
                    <a:pt x="7401" y="1420"/>
                  </a:lnTo>
                  <a:lnTo>
                    <a:pt x="7382" y="1380"/>
                  </a:lnTo>
                  <a:lnTo>
                    <a:pt x="7361" y="1339"/>
                  </a:lnTo>
                  <a:lnTo>
                    <a:pt x="7338" y="1299"/>
                  </a:lnTo>
                  <a:lnTo>
                    <a:pt x="7312" y="1258"/>
                  </a:lnTo>
                  <a:lnTo>
                    <a:pt x="7286" y="1219"/>
                  </a:lnTo>
                  <a:lnTo>
                    <a:pt x="7258" y="1179"/>
                  </a:lnTo>
                  <a:lnTo>
                    <a:pt x="7226" y="1141"/>
                  </a:lnTo>
                  <a:lnTo>
                    <a:pt x="7194" y="1101"/>
                  </a:lnTo>
                  <a:lnTo>
                    <a:pt x="7159" y="1063"/>
                  </a:lnTo>
                  <a:lnTo>
                    <a:pt x="7123" y="1026"/>
                  </a:lnTo>
                  <a:lnTo>
                    <a:pt x="7084" y="988"/>
                  </a:lnTo>
                  <a:lnTo>
                    <a:pt x="7045" y="951"/>
                  </a:lnTo>
                  <a:lnTo>
                    <a:pt x="7003" y="914"/>
                  </a:lnTo>
                  <a:lnTo>
                    <a:pt x="6960" y="878"/>
                  </a:lnTo>
                  <a:lnTo>
                    <a:pt x="6914" y="842"/>
                  </a:lnTo>
                  <a:lnTo>
                    <a:pt x="6868" y="807"/>
                  </a:lnTo>
                  <a:lnTo>
                    <a:pt x="6819" y="773"/>
                  </a:lnTo>
                  <a:lnTo>
                    <a:pt x="6768" y="738"/>
                  </a:lnTo>
                  <a:lnTo>
                    <a:pt x="6717" y="705"/>
                  </a:lnTo>
                  <a:lnTo>
                    <a:pt x="6663" y="672"/>
                  </a:lnTo>
                  <a:lnTo>
                    <a:pt x="6607" y="640"/>
                  </a:lnTo>
                  <a:lnTo>
                    <a:pt x="6550" y="608"/>
                  </a:lnTo>
                  <a:lnTo>
                    <a:pt x="6493" y="577"/>
                  </a:lnTo>
                  <a:lnTo>
                    <a:pt x="6433" y="547"/>
                  </a:lnTo>
                  <a:lnTo>
                    <a:pt x="6372" y="517"/>
                  </a:lnTo>
                  <a:lnTo>
                    <a:pt x="6309" y="488"/>
                  </a:lnTo>
                  <a:lnTo>
                    <a:pt x="6245" y="460"/>
                  </a:lnTo>
                  <a:lnTo>
                    <a:pt x="6180" y="433"/>
                  </a:lnTo>
                  <a:lnTo>
                    <a:pt x="6113" y="405"/>
                  </a:lnTo>
                  <a:lnTo>
                    <a:pt x="6045" y="379"/>
                  </a:lnTo>
                  <a:lnTo>
                    <a:pt x="5976" y="354"/>
                  </a:lnTo>
                  <a:lnTo>
                    <a:pt x="5905" y="329"/>
                  </a:lnTo>
                  <a:lnTo>
                    <a:pt x="5834" y="306"/>
                  </a:lnTo>
                  <a:lnTo>
                    <a:pt x="5761" y="283"/>
                  </a:lnTo>
                  <a:lnTo>
                    <a:pt x="5687" y="261"/>
                  </a:lnTo>
                  <a:lnTo>
                    <a:pt x="5612" y="239"/>
                  </a:lnTo>
                  <a:lnTo>
                    <a:pt x="5536" y="219"/>
                  </a:lnTo>
                  <a:lnTo>
                    <a:pt x="5459" y="200"/>
                  </a:lnTo>
                  <a:lnTo>
                    <a:pt x="5382" y="181"/>
                  </a:lnTo>
                  <a:lnTo>
                    <a:pt x="5303" y="163"/>
                  </a:lnTo>
                  <a:lnTo>
                    <a:pt x="5223" y="146"/>
                  </a:lnTo>
                  <a:lnTo>
                    <a:pt x="5143" y="130"/>
                  </a:lnTo>
                  <a:lnTo>
                    <a:pt x="5062" y="115"/>
                  </a:lnTo>
                  <a:lnTo>
                    <a:pt x="4980" y="101"/>
                  </a:lnTo>
                  <a:lnTo>
                    <a:pt x="4898" y="87"/>
                  </a:lnTo>
                  <a:lnTo>
                    <a:pt x="4815" y="74"/>
                  </a:lnTo>
                  <a:lnTo>
                    <a:pt x="4731" y="63"/>
                  </a:lnTo>
                  <a:lnTo>
                    <a:pt x="4647" y="53"/>
                  </a:lnTo>
                  <a:lnTo>
                    <a:pt x="4563" y="43"/>
                  </a:lnTo>
                  <a:lnTo>
                    <a:pt x="4477" y="35"/>
                  </a:lnTo>
                  <a:lnTo>
                    <a:pt x="4391" y="27"/>
                  </a:lnTo>
                  <a:lnTo>
                    <a:pt x="4305" y="21"/>
                  </a:lnTo>
                  <a:lnTo>
                    <a:pt x="4219" y="15"/>
                  </a:lnTo>
                  <a:lnTo>
                    <a:pt x="4133" y="10"/>
                  </a:lnTo>
                  <a:lnTo>
                    <a:pt x="4046" y="5"/>
                  </a:lnTo>
                  <a:lnTo>
                    <a:pt x="3960" y="2"/>
                  </a:lnTo>
                  <a:lnTo>
                    <a:pt x="3873" y="1"/>
                  </a:lnTo>
                  <a:lnTo>
                    <a:pt x="3785" y="0"/>
                  </a:lnTo>
                  <a:lnTo>
                    <a:pt x="3698" y="0"/>
                  </a:lnTo>
                  <a:lnTo>
                    <a:pt x="3611" y="1"/>
                  </a:lnTo>
                  <a:lnTo>
                    <a:pt x="3524" y="3"/>
                  </a:lnTo>
                  <a:lnTo>
                    <a:pt x="3437" y="6"/>
                  </a:lnTo>
                  <a:lnTo>
                    <a:pt x="3351" y="11"/>
                  </a:lnTo>
                  <a:lnTo>
                    <a:pt x="3265" y="15"/>
                  </a:lnTo>
                  <a:lnTo>
                    <a:pt x="3177" y="21"/>
                  </a:lnTo>
                  <a:lnTo>
                    <a:pt x="3092" y="28"/>
                  </a:lnTo>
                  <a:lnTo>
                    <a:pt x="3006" y="36"/>
                  </a:lnTo>
                  <a:lnTo>
                    <a:pt x="2921" y="44"/>
                  </a:lnTo>
                  <a:lnTo>
                    <a:pt x="2837" y="54"/>
                  </a:lnTo>
                  <a:lnTo>
                    <a:pt x="2752" y="64"/>
                  </a:lnTo>
                  <a:lnTo>
                    <a:pt x="2669" y="76"/>
                  </a:lnTo>
                  <a:lnTo>
                    <a:pt x="2586" y="88"/>
                  </a:lnTo>
                  <a:lnTo>
                    <a:pt x="2503" y="102"/>
                  </a:lnTo>
                  <a:lnTo>
                    <a:pt x="2422" y="117"/>
                  </a:lnTo>
                  <a:lnTo>
                    <a:pt x="2341" y="132"/>
                  </a:lnTo>
                  <a:lnTo>
                    <a:pt x="2259" y="148"/>
                  </a:lnTo>
                  <a:lnTo>
                    <a:pt x="2180" y="165"/>
                  </a:lnTo>
                  <a:lnTo>
                    <a:pt x="2101" y="183"/>
                  </a:lnTo>
                  <a:lnTo>
                    <a:pt x="2023" y="202"/>
                  </a:lnTo>
                  <a:lnTo>
                    <a:pt x="1946" y="221"/>
                  </a:lnTo>
                  <a:lnTo>
                    <a:pt x="1871" y="242"/>
                  </a:lnTo>
                  <a:lnTo>
                    <a:pt x="1796" y="264"/>
                  </a:lnTo>
                  <a:lnTo>
                    <a:pt x="1722" y="286"/>
                  </a:lnTo>
                  <a:lnTo>
                    <a:pt x="1649" y="308"/>
                  </a:lnTo>
                  <a:lnTo>
                    <a:pt x="1578" y="332"/>
                  </a:lnTo>
                  <a:lnTo>
                    <a:pt x="1508" y="357"/>
                  </a:lnTo>
                  <a:lnTo>
                    <a:pt x="1438" y="382"/>
                  </a:lnTo>
                  <a:lnTo>
                    <a:pt x="1370" y="408"/>
                  </a:lnTo>
                  <a:lnTo>
                    <a:pt x="1304" y="436"/>
                  </a:lnTo>
                  <a:lnTo>
                    <a:pt x="1238" y="463"/>
                  </a:lnTo>
                  <a:lnTo>
                    <a:pt x="1174" y="491"/>
                  </a:lnTo>
                  <a:lnTo>
                    <a:pt x="1111" y="521"/>
                  </a:lnTo>
                  <a:lnTo>
                    <a:pt x="1051" y="550"/>
                  </a:lnTo>
                  <a:lnTo>
                    <a:pt x="991" y="580"/>
                  </a:lnTo>
                  <a:lnTo>
                    <a:pt x="932" y="612"/>
                  </a:lnTo>
                  <a:lnTo>
                    <a:pt x="875" y="643"/>
                  </a:lnTo>
                  <a:lnTo>
                    <a:pt x="821" y="675"/>
                  </a:lnTo>
                  <a:lnTo>
                    <a:pt x="767" y="709"/>
                  </a:lnTo>
                  <a:lnTo>
                    <a:pt x="714" y="742"/>
                  </a:lnTo>
                  <a:lnTo>
                    <a:pt x="665" y="777"/>
                  </a:lnTo>
                  <a:lnTo>
                    <a:pt x="616" y="811"/>
                  </a:lnTo>
                  <a:lnTo>
                    <a:pt x="568" y="846"/>
                  </a:lnTo>
                  <a:lnTo>
                    <a:pt x="524" y="882"/>
                  </a:lnTo>
                  <a:lnTo>
                    <a:pt x="480" y="918"/>
                  </a:lnTo>
                  <a:lnTo>
                    <a:pt x="438" y="955"/>
                  </a:lnTo>
                  <a:lnTo>
                    <a:pt x="398" y="992"/>
                  </a:lnTo>
                  <a:lnTo>
                    <a:pt x="360" y="1030"/>
                  </a:lnTo>
                  <a:lnTo>
                    <a:pt x="323" y="1068"/>
                  </a:lnTo>
                  <a:lnTo>
                    <a:pt x="289" y="1107"/>
                  </a:lnTo>
                  <a:lnTo>
                    <a:pt x="256" y="1145"/>
                  </a:lnTo>
                  <a:lnTo>
                    <a:pt x="226" y="1184"/>
                  </a:lnTo>
                  <a:lnTo>
                    <a:pt x="197" y="1224"/>
                  </a:lnTo>
                  <a:lnTo>
                    <a:pt x="170" y="1263"/>
                  </a:lnTo>
                  <a:lnTo>
                    <a:pt x="145" y="1303"/>
                  </a:lnTo>
                  <a:lnTo>
                    <a:pt x="122" y="1343"/>
                  </a:lnTo>
                  <a:lnTo>
                    <a:pt x="101" y="1384"/>
                  </a:lnTo>
                  <a:lnTo>
                    <a:pt x="82" y="1425"/>
                  </a:lnTo>
                  <a:lnTo>
                    <a:pt x="65" y="1466"/>
                  </a:lnTo>
                  <a:lnTo>
                    <a:pt x="50" y="1507"/>
                  </a:lnTo>
                  <a:lnTo>
                    <a:pt x="36" y="1549"/>
                  </a:lnTo>
                  <a:lnTo>
                    <a:pt x="25" y="1590"/>
                  </a:lnTo>
                  <a:lnTo>
                    <a:pt x="16" y="1632"/>
                  </a:lnTo>
                  <a:lnTo>
                    <a:pt x="9" y="1673"/>
                  </a:lnTo>
                  <a:lnTo>
                    <a:pt x="4" y="1715"/>
                  </a:lnTo>
                  <a:lnTo>
                    <a:pt x="1" y="1756"/>
                  </a:lnTo>
                  <a:lnTo>
                    <a:pt x="0" y="1799"/>
                  </a:lnTo>
                  <a:lnTo>
                    <a:pt x="1" y="1840"/>
                  </a:lnTo>
                  <a:lnTo>
                    <a:pt x="4" y="1882"/>
                  </a:lnTo>
                  <a:lnTo>
                    <a:pt x="9" y="1924"/>
                  </a:lnTo>
                  <a:lnTo>
                    <a:pt x="16" y="1966"/>
                  </a:lnTo>
                  <a:lnTo>
                    <a:pt x="25" y="2007"/>
                  </a:lnTo>
                  <a:lnTo>
                    <a:pt x="36" y="2049"/>
                  </a:lnTo>
                  <a:lnTo>
                    <a:pt x="50" y="2090"/>
                  </a:lnTo>
                  <a:lnTo>
                    <a:pt x="65" y="2131"/>
                  </a:lnTo>
                  <a:lnTo>
                    <a:pt x="81" y="2172"/>
                  </a:lnTo>
                  <a:lnTo>
                    <a:pt x="100" y="2213"/>
                  </a:lnTo>
                  <a:lnTo>
                    <a:pt x="122" y="2253"/>
                  </a:lnTo>
                  <a:lnTo>
                    <a:pt x="145" y="2294"/>
                  </a:lnTo>
                  <a:lnTo>
                    <a:pt x="169" y="2333"/>
                  </a:lnTo>
                  <a:lnTo>
                    <a:pt x="197" y="2374"/>
                  </a:lnTo>
                  <a:lnTo>
                    <a:pt x="225" y="2413"/>
                  </a:lnTo>
                  <a:lnTo>
                    <a:pt x="256" y="2451"/>
                  </a:lnTo>
                  <a:lnTo>
                    <a:pt x="289" y="2490"/>
                  </a:lnTo>
                  <a:lnTo>
                    <a:pt x="323" y="2528"/>
                  </a:lnTo>
                  <a:lnTo>
                    <a:pt x="360" y="2567"/>
                  </a:lnTo>
                  <a:lnTo>
                    <a:pt x="397" y="2604"/>
                  </a:lnTo>
                  <a:lnTo>
                    <a:pt x="438" y="2642"/>
                  </a:lnTo>
                  <a:lnTo>
                    <a:pt x="479" y="2678"/>
                  </a:lnTo>
                  <a:lnTo>
                    <a:pt x="523" y="2715"/>
                  </a:lnTo>
                  <a:lnTo>
                    <a:pt x="568" y="2750"/>
                  </a:lnTo>
                  <a:lnTo>
                    <a:pt x="615" y="2785"/>
                  </a:lnTo>
                  <a:lnTo>
                    <a:pt x="664" y="2820"/>
                  </a:lnTo>
                  <a:lnTo>
                    <a:pt x="714" y="2853"/>
                  </a:lnTo>
                  <a:lnTo>
                    <a:pt x="766" y="2888"/>
                  </a:lnTo>
                  <a:lnTo>
                    <a:pt x="820" y="2920"/>
                  </a:lnTo>
                  <a:lnTo>
                    <a:pt x="874" y="2952"/>
                  </a:lnTo>
                  <a:lnTo>
                    <a:pt x="931" y="2984"/>
                  </a:lnTo>
                  <a:lnTo>
                    <a:pt x="990" y="3015"/>
                  </a:lnTo>
                  <a:lnTo>
                    <a:pt x="1050" y="3045"/>
                  </a:lnTo>
                  <a:lnTo>
                    <a:pt x="1110" y="3075"/>
                  </a:lnTo>
                  <a:lnTo>
                    <a:pt x="1173" y="3104"/>
                  </a:lnTo>
                  <a:lnTo>
                    <a:pt x="1237" y="3132"/>
                  </a:lnTo>
                  <a:lnTo>
                    <a:pt x="1303" y="3160"/>
                  </a:lnTo>
                  <a:lnTo>
                    <a:pt x="1370" y="3187"/>
                  </a:lnTo>
                  <a:lnTo>
                    <a:pt x="1438" y="3212"/>
                  </a:lnTo>
                  <a:lnTo>
                    <a:pt x="1507" y="3238"/>
                  </a:lnTo>
                  <a:lnTo>
                    <a:pt x="1577" y="3263"/>
                  </a:lnTo>
                  <a:lnTo>
                    <a:pt x="1648" y="3286"/>
                  </a:lnTo>
                  <a:lnTo>
                    <a:pt x="1721" y="3310"/>
                  </a:lnTo>
                  <a:lnTo>
                    <a:pt x="1795" y="3332"/>
                  </a:lnTo>
                  <a:lnTo>
                    <a:pt x="1870" y="3353"/>
                  </a:lnTo>
                  <a:lnTo>
                    <a:pt x="1946" y="3373"/>
                  </a:lnTo>
                  <a:lnTo>
                    <a:pt x="2022" y="3393"/>
                  </a:lnTo>
                  <a:lnTo>
                    <a:pt x="2100" y="3412"/>
                  </a:lnTo>
                  <a:lnTo>
                    <a:pt x="2179" y="3429"/>
                  </a:lnTo>
                  <a:lnTo>
                    <a:pt x="2258" y="3446"/>
                  </a:lnTo>
                  <a:lnTo>
                    <a:pt x="2339" y="3462"/>
                  </a:lnTo>
                  <a:lnTo>
                    <a:pt x="2421" y="3478"/>
                  </a:lnTo>
                  <a:lnTo>
                    <a:pt x="2502" y="3492"/>
                  </a:lnTo>
                  <a:lnTo>
                    <a:pt x="2585" y="3505"/>
                  </a:lnTo>
                  <a:lnTo>
                    <a:pt x="2668" y="3517"/>
                  </a:lnTo>
                  <a:lnTo>
                    <a:pt x="2751" y="3529"/>
                  </a:lnTo>
                  <a:lnTo>
                    <a:pt x="2836" y="3539"/>
                  </a:lnTo>
                  <a:lnTo>
                    <a:pt x="2920" y="3549"/>
                  </a:lnTo>
                  <a:lnTo>
                    <a:pt x="3005" y="3558"/>
                  </a:lnTo>
                  <a:lnTo>
                    <a:pt x="3091" y="3566"/>
                  </a:lnTo>
                  <a:lnTo>
                    <a:pt x="3176" y="3572"/>
                  </a:lnTo>
                  <a:lnTo>
                    <a:pt x="3263" y="3578"/>
                  </a:lnTo>
                  <a:lnTo>
                    <a:pt x="3350" y="3583"/>
                  </a:lnTo>
                  <a:lnTo>
                    <a:pt x="3436" y="3587"/>
                  </a:lnTo>
                  <a:lnTo>
                    <a:pt x="3523" y="3589"/>
                  </a:lnTo>
                  <a:lnTo>
                    <a:pt x="3610" y="3591"/>
                  </a:lnTo>
                  <a:lnTo>
                    <a:pt x="3697" y="3592"/>
                  </a:lnTo>
                  <a:lnTo>
                    <a:pt x="3784" y="3592"/>
                  </a:lnTo>
                  <a:lnTo>
                    <a:pt x="3871" y="3591"/>
                  </a:lnTo>
                  <a:lnTo>
                    <a:pt x="3959" y="3589"/>
                  </a:lnTo>
                  <a:lnTo>
                    <a:pt x="4045" y="3586"/>
                  </a:lnTo>
                  <a:lnTo>
                    <a:pt x="4132" y="3582"/>
                  </a:lnTo>
                  <a:lnTo>
                    <a:pt x="4218" y="3577"/>
                  </a:lnTo>
                  <a:lnTo>
                    <a:pt x="4304" y="3572"/>
                  </a:lnTo>
                  <a:lnTo>
                    <a:pt x="4390" y="3565"/>
                  </a:lnTo>
                  <a:lnTo>
                    <a:pt x="4475" y="3557"/>
                  </a:lnTo>
                  <a:lnTo>
                    <a:pt x="4561" y="3548"/>
                  </a:lnTo>
                  <a:lnTo>
                    <a:pt x="4646" y="3538"/>
                  </a:lnTo>
                  <a:lnTo>
                    <a:pt x="4730" y="3528"/>
                  </a:lnTo>
                  <a:lnTo>
                    <a:pt x="4814" y="3516"/>
                  </a:lnTo>
                  <a:lnTo>
                    <a:pt x="4897" y="3504"/>
                  </a:lnTo>
                  <a:lnTo>
                    <a:pt x="4979" y="3490"/>
                  </a:lnTo>
                  <a:lnTo>
                    <a:pt x="5061" y="3476"/>
                  </a:lnTo>
                  <a:lnTo>
                    <a:pt x="5142" y="3460"/>
                  </a:lnTo>
                  <a:lnTo>
                    <a:pt x="5222" y="3444"/>
                  </a:lnTo>
                  <a:lnTo>
                    <a:pt x="5302" y="3427"/>
                  </a:lnTo>
                  <a:lnTo>
                    <a:pt x="5381" y="3410"/>
                  </a:lnTo>
                  <a:lnTo>
                    <a:pt x="5458" y="3391"/>
                  </a:lnTo>
                  <a:lnTo>
                    <a:pt x="5535" y="3371"/>
                  </a:lnTo>
                  <a:lnTo>
                    <a:pt x="5611" y="3350"/>
                  </a:lnTo>
                  <a:lnTo>
                    <a:pt x="5686" y="3329"/>
                  </a:lnTo>
                  <a:lnTo>
                    <a:pt x="5760" y="3307"/>
                  </a:lnTo>
                  <a:lnTo>
                    <a:pt x="5833" y="3284"/>
                  </a:lnTo>
                  <a:lnTo>
                    <a:pt x="5904" y="3260"/>
                  </a:lnTo>
                  <a:lnTo>
                    <a:pt x="5975" y="3236"/>
                  </a:lnTo>
                  <a:lnTo>
                    <a:pt x="6044" y="3210"/>
                  </a:lnTo>
                  <a:lnTo>
                    <a:pt x="6112" y="3184"/>
                  </a:lnTo>
                  <a:lnTo>
                    <a:pt x="6179" y="3157"/>
                  </a:lnTo>
                  <a:lnTo>
                    <a:pt x="6244" y="3129"/>
                  </a:lnTo>
                  <a:lnTo>
                    <a:pt x="6308" y="3101"/>
                  </a:lnTo>
                  <a:lnTo>
                    <a:pt x="6371" y="3072"/>
                  </a:lnTo>
                  <a:lnTo>
                    <a:pt x="6432" y="3042"/>
                  </a:lnTo>
                  <a:lnTo>
                    <a:pt x="6492" y="3012"/>
                  </a:lnTo>
                  <a:lnTo>
                    <a:pt x="6550" y="2981"/>
                  </a:lnTo>
                  <a:lnTo>
                    <a:pt x="6607" y="2949"/>
                  </a:lnTo>
                  <a:lnTo>
                    <a:pt x="6662" y="2917"/>
                  </a:lnTo>
                  <a:lnTo>
                    <a:pt x="6716" y="2884"/>
                  </a:lnTo>
                  <a:lnTo>
                    <a:pt x="6767" y="2850"/>
                  </a:lnTo>
                  <a:lnTo>
                    <a:pt x="6818" y="2816"/>
                  </a:lnTo>
                  <a:lnTo>
                    <a:pt x="6867" y="2781"/>
                  </a:lnTo>
                  <a:lnTo>
                    <a:pt x="6914" y="2746"/>
                  </a:lnTo>
                  <a:lnTo>
                    <a:pt x="6959" y="2711"/>
                  </a:lnTo>
                  <a:lnTo>
                    <a:pt x="7002" y="2674"/>
                  </a:lnTo>
                  <a:lnTo>
                    <a:pt x="7045" y="2638"/>
                  </a:lnTo>
                  <a:lnTo>
                    <a:pt x="7084" y="2600"/>
                  </a:lnTo>
                  <a:lnTo>
                    <a:pt x="7123" y="2563"/>
                  </a:lnTo>
                  <a:lnTo>
                    <a:pt x="7159" y="2524"/>
                  </a:lnTo>
                  <a:lnTo>
                    <a:pt x="7194" y="2486"/>
                  </a:lnTo>
                  <a:lnTo>
                    <a:pt x="7226" y="2447"/>
                  </a:lnTo>
                  <a:lnTo>
                    <a:pt x="7257" y="2408"/>
                  </a:lnTo>
                  <a:lnTo>
                    <a:pt x="7286" y="2369"/>
                  </a:lnTo>
                  <a:lnTo>
                    <a:pt x="7312" y="2329"/>
                  </a:lnTo>
                  <a:lnTo>
                    <a:pt x="7338" y="2290"/>
                  </a:lnTo>
                  <a:lnTo>
                    <a:pt x="7361" y="2249"/>
                  </a:lnTo>
                  <a:lnTo>
                    <a:pt x="7381" y="2209"/>
                  </a:lnTo>
                  <a:lnTo>
                    <a:pt x="7401" y="2167"/>
                  </a:lnTo>
                  <a:lnTo>
                    <a:pt x="7418" y="2127"/>
                  </a:lnTo>
                  <a:lnTo>
                    <a:pt x="7433" y="2085"/>
                  </a:lnTo>
                  <a:lnTo>
                    <a:pt x="7446" y="2044"/>
                  </a:lnTo>
                  <a:lnTo>
                    <a:pt x="7457" y="2002"/>
                  </a:lnTo>
                  <a:lnTo>
                    <a:pt x="7466" y="1961"/>
                  </a:lnTo>
                  <a:lnTo>
                    <a:pt x="7473" y="1919"/>
                  </a:lnTo>
                  <a:lnTo>
                    <a:pt x="7479" y="1878"/>
                  </a:lnTo>
                  <a:lnTo>
                    <a:pt x="7482" y="1836"/>
                  </a:lnTo>
                  <a:lnTo>
                    <a:pt x="7483" y="1794"/>
                  </a:lnTo>
                  <a:lnTo>
                    <a:pt x="7483" y="1794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09640" y="3424320"/>
              <a:ext cx="1644840" cy="689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23040" y="3530520"/>
              <a:ext cx="2492280" cy="2013120"/>
            </a:xfrm>
            <a:prstGeom prst="roundRect">
              <a:avLst>
                <a:gd name="adj" fmla="val 5269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94200" y="4591080"/>
              <a:ext cx="1432080" cy="635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54480" y="3424320"/>
              <a:ext cx="3871800" cy="1166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4480" y="4113360"/>
              <a:ext cx="3871800" cy="111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09640" y="3424320"/>
              <a:ext cx="4084560" cy="1166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09640" y="4113360"/>
              <a:ext cx="4084560" cy="111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50920" y="3122640"/>
              <a:ext cx="1076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ver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3034800" y="2736720"/>
              <a:ext cx="1008360" cy="90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35160" y="3517920"/>
              <a:ext cx="123840" cy="119160"/>
            </a:xfrm>
            <a:custGeom>
              <a:avLst/>
              <a:gdLst/>
              <a:ahLst/>
              <a:rect l="l" t="t" r="r" b="b"/>
              <a:pathLst>
                <a:path w="311" h="298">
                  <a:moveTo>
                    <a:pt x="311" y="214"/>
                  </a:moveTo>
                  <a:lnTo>
                    <a:pt x="0" y="298"/>
                  </a:lnTo>
                  <a:lnTo>
                    <a:pt x="119" y="0"/>
                  </a:lnTo>
                  <a:lnTo>
                    <a:pt x="311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466880" y="3213000"/>
              <a:ext cx="58428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67240" y="3624120"/>
              <a:ext cx="123840" cy="119160"/>
            </a:xfrm>
            <a:custGeom>
              <a:avLst/>
              <a:gdLst/>
              <a:ahLst/>
              <a:rect l="l" t="t" r="r" b="b"/>
              <a:pathLst>
                <a:path w="309" h="299">
                  <a:moveTo>
                    <a:pt x="309" y="212"/>
                  </a:moveTo>
                  <a:lnTo>
                    <a:pt x="0" y="299"/>
                  </a:lnTo>
                  <a:lnTo>
                    <a:pt x="115" y="0"/>
                  </a:lnTo>
                  <a:lnTo>
                    <a:pt x="30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47920" y="2408400"/>
              <a:ext cx="13708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orld 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06680" y="2938320"/>
              <a:ext cx="289800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iewing Trans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938400" y="5014800"/>
              <a:ext cx="2066760" cy="58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80240" y="4991040"/>
              <a:ext cx="125280" cy="109440"/>
            </a:xfrm>
            <a:custGeom>
              <a:avLst/>
              <a:gdLst/>
              <a:ahLst/>
              <a:rect l="l" t="t" r="r" b="b"/>
              <a:pathLst>
                <a:path w="316" h="276">
                  <a:moveTo>
                    <a:pt x="79" y="276"/>
                  </a:moveTo>
                  <a:lnTo>
                    <a:pt x="316" y="59"/>
                  </a:lnTo>
                  <a:lnTo>
                    <a:pt x="0" y="0"/>
                  </a:lnTo>
                  <a:lnTo>
                    <a:pt x="79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36520" y="5464080"/>
              <a:ext cx="10753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iew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1371600"/>
              <a:ext cx="8153640" cy="61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viewing transformation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connects the World View to the View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verything else is clip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me Definitions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universe is the space you're working in (mi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world view is that part of the universe you want to see on    the screen at any given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00 miles to +100 miles horizont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 miles to 75 miles vert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iew port is that part of the screen containing the world 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to 20,000 NDC units horizont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to 5,000 NDC units vert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ewing Transforma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et vxform.v 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all setworld.r (-100,100,25,7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all setview.r (0,20000,0,50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Pream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''   This shows a simple dynamic graphics output using SimAnim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''   It draws a shape and moves it around the scree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''   CACI Products Compa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  Normally mode is undefin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 Processes includ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        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     Dynamic graphic entities includ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        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     Define minutes to mean un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     Define ..END.OF.PROGRAM to mean Call messagebox.r ("Click to end program!","End of Program"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9  End ''Pream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M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 Call SET.GRAPHIC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   Activate a SHAPE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   Show SHAPE with "ARROW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  Start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End ''M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Process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Define .I as an integer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  Let location.a(SHAPE)    = location.f(0.0, 0.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 Let velocity.a(SHAPE)    = velocity.f(200.0, pi.c/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   Let orientation.a(SHAPE) = pi.c/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Wait 16 minu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 Let velocity.a(SHAPE) = velocity.f(200.0, - pi.c /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    Let orientation.a(SHAPE) = - pi.c /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    Wait 11.6 minu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    Let velocity.a(SHAPE) = velocity.f(200.0, 0.8 * pi.c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      For .I = 1 to 100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         Add (pi.c / 10) to orientation.a(SHAP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           Wait 0.1 minu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9      Loop ''I = 1 to 100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1      Let velocity.a(SHAPE) =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3      ..END.OF.PRO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5  End ''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0T16:34:00Z</dcterms:created>
  <dc:creator>Jeffry Gene Jones</dc:creator>
  <dc:description/>
  <dc:language>en-US</dc:language>
  <cp:lastModifiedBy>jprince</cp:lastModifiedBy>
  <cp:lastPrinted>1999-03-31T17:23:35Z</cp:lastPrinted>
  <dcterms:modified xsi:type="dcterms:W3CDTF">2004-11-05T21:09:58Z</dcterms:modified>
  <cp:revision>39</cp:revision>
  <dc:subject/>
  <dc:title>Day 5 - Continuous Simulation and Animation</dc:title>
</cp:coreProperties>
</file>