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11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————————— 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ACI Products Company  ————————————————————————————  SimScript II.5  ——————————————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1, Section 2 Problem Solution</a:t>
            </a:r>
            <a:br>
              <a:rPr sz="24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:\Program Files\Simscript3\models\Heath2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 Entities, Attributes, &amp; Sets Problem - CACI Products Compan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''  Solution to Student Problem 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''  HEATH1.SRC, WESTAPR.D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Normally mode is undefin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Permanent entit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Every APPROACH h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     an APP.NAM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     owns a CHECK.POINT.SET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   Define APP.NAME as a text variabl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Temporary entit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  Every CHECK.POINT h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    a CK.NBR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       a CK.X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         a CK.Y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        belongs to a CHECK.POINT.S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    Define CK.NBR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           CK.X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            CK.Y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End ''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305920" y="66135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2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Call INITIALIZ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Activate a GENERATOR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Activate a REPORT in RUN.LENGTH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Start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Read as / using unit 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E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INITIALIZ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 Open unit 10 for input, name = "PORT.DA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Use unit 10 for inpu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Read NBR.TU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Read NBR.DOCK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Read RUN.LENGT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Close unit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Create every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Let U.TUG(1) = NBR.TU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Create every 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Let U.DOCK(1) = NBR.DOCK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End ''INITIALIZ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0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4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GENER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Until time.v &gt;= RUN.LENGTH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   Activate a SHIP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  Wait uniform.f(4.0, 18.0, 1)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Loop ''time.v &gt;= RUN.LENGTH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End ''GENER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4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Define .ARRIVAL.TI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      .UNLOAD.TIM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       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Let .PROBABILITY = random.f(2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Select case 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Case 0.0 to .2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 Let .UNLOAD.TIME = uniform.f(16.0, 20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Case .25 to .8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   Let .UNLOAD.TIME = uniform.f(21.0, 27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Defaul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Let .UNLOAD.TIME = uniform.f(32.0, 40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Endselect ''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Let .ARRIVAL.TIME = time.v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Request 1 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Request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Wait 1.0 hou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Relinquish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Work .UNLOAD.TIME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Request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   Wait 1.0 hou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Relinquish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Relinquish 1 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Add 1 to NO.OF.SHIPS.SERV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   Let WAITING.TIME = (time.v - .ARRIVAL.TIME) * hours.v - .UNLOAD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Add WAITING.TIME to TOTAL.WAITING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   Let MAX.WAITING.TIME = max.f(WAITING.TIME, MAX.WAITING.TIM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End ''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4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Skip 2 output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Print 4 lines with RUN.LENGTH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acific Port Problem (Answer to Student Problem B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n length is *** day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Skip 2 output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Print 4 lines with time.v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                NO.OF.SHIPS.SERVED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                TOTAL.WAITING.TIME/NO.OF.SHIPS.SERVED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             MAX.WAITING.TIME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fter ***.** days, *** ships have been unload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waiting time was  **.** hour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waiting time was  **.**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Skip 2 lines            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End ''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4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acific Port Problem (Answer to Student Problem B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n length is 365 day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fter 365.00 days, 792 ships have been unload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waiting time was   4.01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waiting time was  34.00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4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:\Program Files\Simscript3\models\Problem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same model using multiple replication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4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3, Section 6 Problem Solution</a:t>
            </a:r>
            <a:br>
              <a:rPr sz="24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:\Program Files\Simscript3\models\AnswerC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 Pacific Port Problem - CACI Products Compan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''  Solution to Student Problem 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''  files: PROBLEMC.SRC, PORT.DAT, WAIT.GR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Normally mode is undefin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Process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GENERATOR,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SHIP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Every SHIP h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a SHIP.TYP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Define SHIP.TYPE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Define ..OLD.SHIP to mean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Define ..NEW.SHIP to mean 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Resourc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  DOCK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''  Input glob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    Define RUN.LENGTH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 Define NBR.DOCKS, NBR.TUGS, NBR.NEW.SHIPS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''  Internal glob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    Define DOCKS.IN.USE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 Define IN.PORT.TIME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''  Output glob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      Define WAITING.TIME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  ''  Statistic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2      Accumulate AVG.DOCK.QUEUE as the averag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3                 MAX.DOCK.QUEUE as the maximum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4      of N.Q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6      Accumulate DOCK.UTILIZATION as the average of DOCKS.IN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8      Accumulate AVG.TUG.QUEUE as the averag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9                 MAX.TUG.QUEUE as the maximu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0      of N.Q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2      Accumulate TUG.UTILIZATION as the average of N.X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4      Tally AVG.IN.PORT.TIME as the averag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5            MAX.IN.PORT.TIME as the maximum and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6            NO.OF.SHIPS.SERVED as the number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7      of IN.PORT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9      Tally AVG.SHIP.DELAY as the averag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0            MAX.SHIP.DELAY as the maximum of WAITING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2  ''------------------------------------------------------------------------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4      Process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5          GRAPHICS.DISPLA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7  ''  Internal global variable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9          Define WLO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0                 WHI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1                 WDEL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2         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4  ''  Statistic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6      Tally WAITING.TIME.HISTOGRAM(WLO to WHI by WDELTA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7          as the histogram of WAITING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9  End ''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Call INITIALIZ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Activate a GENERATOR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Activate a GRAPHICS.DISPLAY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Activate a REPORT in RUN.LENGTH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Start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Read as / using unit 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E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89548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Define .I as an integ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For .I = 1 to NBR.NEW.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  Activate a SHIP in uniform.f (0, 10, 4)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  LET SHIP.TYPE(SHIP) = ..NEW.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Until time.v &gt; = RUN.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Activate a SHIP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Let SHIP.TYPE(SHIP) = ..OLD.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Wait uniform.f(4.0, 18.0, 1)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Loop ''time.v &gt; = RUN.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End ''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 Call READ.APPROACH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Call PRINT.APPROACH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Read as / using unit 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End ''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2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Define .UNLOAD.TIM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      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If SHIP.TYPE(SHIP) = ..OLD.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Let .PROBABILITY = random.f(2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Select case 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 Case 0.0 to .2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       Let .UNLOAD.TIME = uniform.f(16.0, 20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   Case .25 to .8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       Let .UNLOAD.TIME = uniform.f(21.0, 27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Defaul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     Let .UNLOAD.TIME = uniform.f(32.0, 40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Endselect ''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Call HARBOR.OPERATIO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   giving .UNLOAD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E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Until time.v &gt; RUN.LENGTH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     Let .UNLOAD.TIME = exponential.f (21, 5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      Call HARBOR.OPERATIO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              giving .UNLOAD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      Wait normal.f (10, 1, 6)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   Lo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Endi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End ''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HARBOR.OPERATIO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       given .UNLOAD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Define .ARRIVAL.TIME, .UNLOAD.TIME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Let .ARRIVAL.TIME = time.v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Request 1 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Request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Wait 1.0 hou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Relinquish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Add 1 to DOCKS.IN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Work .UNLOAD.TIME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Subtract 1 from DOCKS.IN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Request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Wait 1.0 hou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Relinquish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Relinquish 1 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Let IN.PORT.TIME = (time.v - .ARRIVAL.TIME) * hours.v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Let WAITING.TIME = IN.PORT.TIME - .UNLOAD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End   ''HARBOR.OPERATIO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GRAPHICS.DISPLA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 Display the histogram immediatel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Display histogram WAITING.TIME.HISTOGRAM with "WAIT.GRF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''  Display the histogram every 50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Until time.v &gt;= RUN.LENGTH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  Wait 50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  Display histogram WAITING.TIME.HIS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Loop ''time.v &gt;= RUN.LENGTH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''  Display the histogram one last 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Display histogram WAITING.TIME.HIS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End ''GRAPHICS.DISPLA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INITIALIZ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 Open unit 10 for input, name = "PORT.DA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Use unit 10 for inpu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Read NBR.TU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Read NBR.DOCK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Read RUN.LENGT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Skip 3 fiel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Read NBR.NEW.SHIP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Close unit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Create every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Let U.TUG(1) = NBR.TU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 Create every 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Let U.DOCK(1) = NBR.DOCK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Show WAITING.TIME.HISTOGRAM with "WAIT.GRF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End ''INITIALIZ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Print 3 lines with RUN.LENGTH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acific Port Problem (Solution to Student Problem C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n length is *** Day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Skip 1 l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Print 15 lines with time.v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               NO.OF.SHIPS.SERVED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                 AVG.SHIP.DELAY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                 MAX.SHIP.DELAY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                 AVG.IN.PORT.TIME,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              MAX.IN.PORT.TI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               (DOCK.UTILIZATION/NBR.DOCKS) * 100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                 AVG.DOCK.QUEUE(1)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                   MAX.DOCK.QUEUE(1)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                 (TUG.UTILIZATION(1)/NBR.TUGS) * 100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               AVG.TUG.QUEUE(1)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                  MAX.TUG.QUEUE(1)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fter *** days, *** ships have been unload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waiting time was ***.*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waiting time was ***.*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in-port time for a ship was ***.*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in-port time for a ship was ***.*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dock utilization was  **.*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dock was **.**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dock was    **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tug utilization was  **.*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tug was **.**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tug was    **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  End ''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acific Port Problem (Solution to Student Problem C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n length is 365 Day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fter 365 days, 938 ships have been unload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waiting time was  29.9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waiting time was 110.5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in-port time for a ship was  54.7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in-port time for a ship was 189.4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dock utilization was  88.4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dock was  2.98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dock was    13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tug utilization was  21.4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tug was   .02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tug was     2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6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4, Section 8 Problem Solution</a:t>
            </a:r>
            <a:br>
              <a:rPr sz="24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:\Program Files\Simscript3\models\Answer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 Pacific Port Problem - CACI Products Compan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''  Solution to Student Problem 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''  files: ANSWERD.SRC, INPUT.FRM, WAIT.GRF, WEATHER.D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Normally mode is undefin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Process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GENERATOR,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SHIP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Every SHIP h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 a SHIP.TYP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6            a SHIP.STATUS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7            belongs to the FLE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9        Define SHIP.STATUS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     SHIP.TYPE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2     The system owns the FLE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4     External Process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5         STOR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7         External process unit is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9     Resourc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    DOCK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       TUG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2         PERMI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Define ..OLD.SHIP to mean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   Define ..NEW.SHIP to mean 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7     Define ..AT.SEA    to mean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8     Define ..IN.HARBOR to mean 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0     Define ..TO.DEPART to mean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2  ''  Input glob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4      Define RUN.LENGTH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5      Define NBR.DOCKS, NBR.TUGS, NBR.NEW.SHIPS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7  ''  Internal glob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9      Define DOCKS.IN.USE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0      Define IN.PORT.TIME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2  ''  Output glob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4      Define WAITING.TIME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6  ''  Statistic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READ.APPROACH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 Define .APR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       .NBR.APPROACHES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Define .CP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''  Open the f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Open unit 11 for input, name = "WESTAPR.DA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Use  unit 11 for input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''  Skip the comments at the t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While mode is alpha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Do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  Start new rec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Loop ''mode is alph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''  Read the number of approaches, start a new rec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''  and create the approach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Read .NBR.APPROACH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Start new rec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Create every APPROACH(.NBR.APPROACHES)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2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8      Accumulate AVG.DOCK.QUEUE as the averag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9                 MAX.DOCK.QUEUE as the maximum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0      of N.Q.DO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2      Accumulate DOCK.UTILIZATION as the average of DOCKS.IN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4      Accumulate AVG.TUG.QUEUE as the averag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5                 MAX.TUG.QUEUE as the maximu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6      of N.Q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8      Accumulate TUG.UTILIZATION as the average of N.X.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0      Tally AVG.IN.PORT.TIME as the averag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1            MAX.IN.PORT.TIME as the maximum and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2            NO.OF.SHIPS.SERVED as the number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3      of IN.PORT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5      Tally AVG.SHIP.DELAY as the averag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6            MAX.SHIP.DELAY as the maximum of WAITING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8  ''------------------------------------------------------------------------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0      Process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1          GRAPHICS.DISPLA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3  ''  Internal global variable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5          Define WLO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6                 WHI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7                 WDEL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8         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0  ''  Statistic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2      Tally WAITING.TIME.HISTOGRAM(WLO to WHI by WDELTA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3          as the histogram of WAITING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5  End ''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Call INITIALIZ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Activate a GENERATOR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Activate a GRAPHICS.DISPLAY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Activate a REPORT in RUN.LENGTH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Start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Read as / using unit 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E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8380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Define .I as an integ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For .I = 1 to NBR.NEW.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  Activate a SHIP in uniform.f (0, 10, 4)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  LET SHIP.TYPE(SHIP)   = ..NEW.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Let SHIP.STATUS(SHIP) = ..AT.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0        File this SHIP in the FL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Until time.v &gt; = RUN.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Activate a SHIP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Let SHIP.TYPE(SHIP)   = ..OLD.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7        Let SHIP.STATUS(SHIP) = ..IN.HAR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  Wait uniform.f(4.0, 18.0, 1)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Loop ''time.v &gt; = RUN.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End ''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Define .UNLOAD.TIME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      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If SHIP.TYPE(SHIP) = ..OLD.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Let .PROBABILITY = random.f(2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Select case 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 Case 0.0 to .2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       Let .UNLOAD.TIME = uniform.f(16.0, 20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   Case .25 to .8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       Let .UNLOAD.TIME = uniform.f(21.0, 27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Defaul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     Let .UNLOAD.TIME = uniform.f(32.0, 40.0, 3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Endselect ''.PROBABIL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Call HARBOR.OPERATIO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   giving .UNLOAD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E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Until time.v &gt; RUN.LENGTH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     Let .UNLOAD.TIME = exponential.f (21, 5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      Call HARBOR.OPERATIO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              giving .UNLOAD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      Wait normal.f (10, 1, 6)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   Lo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2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Remove this SHIP from the FLE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Endi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End ''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HARBOR.OPERATIO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       given .UNLOAD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Define .ARRIVAL.TIME, .UNLOAD.TIME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Let .ARRIVAL.TIME = time.v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Let SHIP.STATUS(SHIP) = ..IN.HARB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Request 1 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Request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Wait 1.0 hou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Relinquish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Add 1 to DOCKS.IN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Work .UNLOAD.TIME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Subtract 1 from DOCKS.IN.U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Request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Wait 1.0 hou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Relinquish 1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Relinquish 1 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8     Request 1 PERMIT(..TO.DEPART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9     Let SHIP.STATUS(SHIP) = ..AT.SE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0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Relinquish 1 PERMIT(..TO.DEPART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Let IN.PORT.TIME = (time.v - .ARRIVAL.TIME) * hours.v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   Let WAITING.TIME = IN.PORT.TIME - .UNLOAD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End   ''HARBOR.OPERATIO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00332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  Process STOR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      Define .DURATION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      Read .DUR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7      Request 1 PERMIT(..TO.DEPART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8      For each SHIP in FLE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9         with SHIP.STATUS(SHIP) = ..AT.SEA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0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1         Interrupt 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2      Loop ''each SHIP in FLEET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4      Wait .DURATION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6      Relinquish 1 PERMIT(..TO.DEPART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7      For each SHIP in FLE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8         with SHIP.STATUS(SHIP) = ..AT.SEA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9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0         Resume SHI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1      Loop ''each SHIP in FLEET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3  End  ''STOR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INITIALIZ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      Define .FORM 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      Define .FIELD as a text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6      Open unit 10 for input, name = "WEATHER.DA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7      Call origin.r (1, 1, 2005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  ''  Display the form and get run data from the us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1      Show .FORM with "INPUT.FRM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2      Let  .FIELD = accept.f(.FORM, 'FORM.CTRL'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''  Create the tug and dock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Create every TUG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Let U.TUG(1) = NBR.TU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Create every DOCK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Let U.DOCK(1) = NBR.DOCK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1      Create every PERMIT(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2      Let U.PERMIT(..TO.DEPART) =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4  ''  Warning elimin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6      Let .FIELD = .FIEL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End ''INITIALIZ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  Routine FORM.CTR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      Giv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          .FIELD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          .FOR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6      Yield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7          .STAT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9  ''  Control routine for the input for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1      Define .FORM 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2      Define .FIELD as a text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3      Define .STATUS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5      Select case .FIEL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7          Case "RUN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8              Let RUN.LENGTH    = ddval.a(dfield.f("RUN LENGTH", .FORM)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9              Let NBR.DOCKS     = int.f(ddval.a(dfield.f("NBR DOCKS", .FORM))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0              Let NBR.TUGS      = int.f(ddval.a(dfield.f("NBR TUGS", .FORM))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1              Let NBR.NEW.SHIPS = int.f(ddval.a(dfield.f("NBR NEW SHIPS", .FORM))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2              Retur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4          Case "QUI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5              Sto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7          Defaul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9      Endselect ''.FIEL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1  ''  Warning elimin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3      Let .STATUS = .STAT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5  End ''FORM.CTR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923760"/>
            <a:ext cx="777240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GRAPHICS.DISPLA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 Display the histogram immediatel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Display histogram WAITING.TIME.HISTOGRAM with "WAI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''  Display the histogram every 50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Until time.v &gt;= RUN.LENGT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  Wait 50 day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  Display histogram WAITING.TIME.HIS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Loop ''time.v &gt;= RUN.LENGTH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''  Display the histogram one last 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Display histogram WAITING.TIME.HIS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End ''GRAPHICS.DISPLA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533520"/>
            <a:ext cx="80010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''  Read the approach name and checkpoin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 For each APPROACH called .AP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   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     Read APP.NAME(.A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        While mode is not alph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    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            Create a CHECK.POINT called .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            Read CK.NBR(.CP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                 CK.X(.CP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                   CK.Y(.C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              File .CP in the CHECK.POINT.SET(.A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          Loop ''mode is not alpha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      Loop ''each APPROACH called .APR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3      Close unit 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5  End ''READ.APPRO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ocess 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Print 3 lines with RUN.LENGTH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acific Port Problem (Solution to Student Problem D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n length is *** Day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Skip 1 l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Print 17 lines with time.v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               NO.OF.SHIPS.SERVED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                 NBR.NEW.SHIPS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                 AVG.SHIP.DELAY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                 MAX.SHIP.DELAY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              AVG.IN.PORT.TIME,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               MAX.IN.PORT.TI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                 (DOCK.UTILIZATION/NBR.DOCKS) * 100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                   AVG.DOCK.QUEUE(1)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                 MAX.DOCK.QUEUE(1)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               (TUG.UTILIZATION(1)/NBR.TUGS) * 100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                  AVG.TUG.QUEUE(1)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                    MAX.TUG.QUEUE(1)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fter *** days, *** ships have been unload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 new ships present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waiting time was ***.*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waiting time was ***.*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in-port time for a ship was ***.*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in-port time for a ship was ***.*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dock utilization was  **.*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dock was **.**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dock was    **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tug utilization was  **.*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tug was **.**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tug was    **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  End ''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acific Port Problem (Solution to Student Problem D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n length is 365 Day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fter 365 days, 792 ships have been unload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new ships present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waiting time was   8.4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waiting time was 237.3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in-port time for a ship was  33.4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in-port time for a ship was 255.1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dock utilization was  75.3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dock was   .17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dock was     3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tug utilization was  18.1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tug was   .01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tug was     2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ults with No New Ship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acific Port Problem (Solution to Student Problem D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n length is 365 Day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fter 365 days, 932 ships have been unload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new ships present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waiting time was  32.9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waiting time was 237.3 hou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in-port time for a ship was  57.6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in-port time for a ship was 255.1 hou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dock utilization was  87.8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dock was  2.83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dock was    12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tug utilization was  21.3 %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queue for the tug was   .02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queue for the tug was     2 ship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ults with 5 New Ship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8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5, Section 10 Problem Solution</a:t>
            </a:r>
            <a:br>
              <a:rPr sz="24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:\Program Files\Simscript3\models\Lhwg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 Heathrow Airport Animation - CACI Products Compan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''  Solution to Student Problem: HEATHR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''  files: LHWG.SRC, ACFT.ICN, LHW.ICN, BOX.ICN, CHECKPT.D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Normally mode is undefin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Temporary entiti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  MAP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2          Every CHECK.POINT h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3              a CHK.X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4              a CHK.Y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5              belongs to an APPROACH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7          Define CHK.X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8                 CHK.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9          as real variable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1      The system owns an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0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Graphic entiti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  MAP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6      Process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7          AIRCRAF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29      Dynamic graphic entiti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0          AIRCRAFT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 Define ..DISPLAY.VIEW.PORT to mean 2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 Define minute  to mean uni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    Define minutes to mean unit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End ''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3      Call READ.APPROACH.DA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4      Call SET.GRAPHICS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Create a MA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Display MAP with "LHW.ICN"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9      Activate an AIRCRAFT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0      Show AIRCRAFT with "ACFT.ICN"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0000"/>
                </a:solidFill>
                <a:latin typeface="Courier New"/>
              </a:rPr>
              <a:t>12      Start simulation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End ''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0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  Process AIRCRAF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      Define .DIRECTION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4             .SPEED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5             .TIM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6     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8      Define .1ST.CP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9             .C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0         as point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2      Let .SPEED = 3 ''miles per minute or 180 kno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4      Let .1ST.CP = F.APPROACH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5      Let location.a(AIRCRAFT) = location.f(CHK.X(.1ST.CP),CHK.Y(.1ST.CP)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7      For each .CP after .1ST.CP in the APPROACH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8          Call VEC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9              Giv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0                  location.x(AIRCRAFT), location.y(AIRCRAFT)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1                  CHK.X(.CP), CHK.Y(.CP)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2                  .SPE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3              Yield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4                   .TI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5                   .DIREC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7          Let orientation.a(AIRCRAFT) = .DIRECTION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8          Let velocity.a(AIRCRAFT) = velocity.f(.SPEED, .DIRECTION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9    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0          Wait .TIME minute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0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0720" y="914400"/>
            <a:ext cx="73152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2      Loop ''each .CP in the APPROACH after .1ST.CP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4      Let velocity.a(AIRCRAFT)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6      Call messagebox.r ("Click to end program!","End of Program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7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8  End ''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  Routine READ.APPROACH.DA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3      Define .CP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5      Open unit 10 for input, name = "CHECKPT.DAT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6      Use  unit 10 for input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8      While mode is not alph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9      Do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1          Create a CHECK.POINT called .C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3          Read CHK.X(.CP)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4               CHK.Y(.CP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5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6          File .CP in the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8      Loop ''mode is not alpha do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1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0      Close unit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2  End ''READ.APPROACH.DA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0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PRINT.APPROACH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 Define .CP as a point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''  Print column heading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Skip 5 li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Print 3 lines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he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oint    X      Y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-  -----  -----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Skip 1 l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''  Print the approach name and the data on each check poin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For each APPROACH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Print 1 line with APP.NAME(APPROACH) th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******************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    For each .CP in the CHECK.POINT.SET(APPROACH) d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      Print 1 line with CK.NBR(.CP)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                          CK.X(.CP)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                          CK.Y(.CP) thu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   ***.*  ***.*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        Loop ''each .CP in the CHECK.POINT.SET(APPROACH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        Skip 1 lin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 Loop ''each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End ''PRINT.APPROACH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2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SET.GRAPHIC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 Let timescale.v = 30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''  Set up a display view 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Let vxform.v = ..DISPLAY.VIEW.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Call setworld.r (-11, 11, -11, 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Call setview.r  (1000, 32000, 1000, 32000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End ''SET.GRAPHIC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0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Routine VEC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 Giv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    .X1,            ''Coordinates of first point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     .Y1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    .X2,            ''Coordinates of second point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    .Y2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    .SPEED          ''Speed of object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Yield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.TIME,          ''Time to go from first to second point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  .DIRECTION      ''Direction from first to second point (radians)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Define .X1, .Y1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  .X2, .Y2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   .DELTA.X, .DELTA.Y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     .SPEED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       .TIME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     .DIREC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 Let .DELTA.X = .X2 - .X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Let .DELTA.Y = .Y2 - .Y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Let .TIME = sqrt.f(.DELTA.X ** 2 + .DELTA.Y ** 2) / .SPE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Let .DIRECTION = arctan.f(.DELTA.Y, .DELTA.X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End ''VEC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10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utpu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Check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Point    X      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  -----  -----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Polar            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0.    20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10.0   15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10.0   10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13.0   10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16.0   14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 20.0   14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estern            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0.     9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10.0   15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10.0   10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13.0   10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16.0   14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 20.0   14.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143000"/>
            <a:ext cx="327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Point    X     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  -----  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outhern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10.0  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10.0   1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10.0   1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13.0   1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16.0   1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 20.0   1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Continental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15.0    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20.0   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10.0   1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10.0   1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13.0   1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16.0   1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 20.0   1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2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2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.DAT Input F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NUMBER OF TUGS:      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NUMBER OF DOCKS:     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RUN LENGTH (DAYS): 36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4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2, Section 4 Problem Solution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:\Program Files\Simscript3\models\Answ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''  Pacific Port Problem - CACI Products Compan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''  Solution to Student Problem B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''  files: ANSWERB.SRC, PORT.D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Normally mode is undefine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3300"/>
                </a:solidFill>
                <a:latin typeface="Courier New"/>
              </a:rPr>
              <a:t>9      Process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3300"/>
                </a:solidFill>
                <a:latin typeface="Courier New"/>
              </a:rPr>
              <a:t>10          GENERATOR,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3300"/>
                </a:solidFill>
                <a:latin typeface="Courier New"/>
              </a:rPr>
              <a:t>11          SHIP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cc3300"/>
                </a:solidFill>
                <a:latin typeface="Courier New"/>
              </a:rPr>
              <a:t>12          REPOR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Resources inclu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DOCK 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TU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''  Input glob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Define RUN.LENGTH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Define NBR.DOCKS and NBR.TUGS as integer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''  Output glob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Define WAITING.TIME as a real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6      Define TOTAL.WAITING.TIME and MAX.WAITING.TIME as real variab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27      Define NO.OF.SHIPS.SERVED as an integer vari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End ''Pream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05920" y="66117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x4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1T02:46:42Z</dcterms:created>
  <dc:creator>Jeffry Gene Jones</dc:creator>
  <dc:description/>
  <dc:language>en-US</dc:language>
  <cp:lastModifiedBy>jprince</cp:lastModifiedBy>
  <cp:lastPrinted>1999-03-31T17:24:05Z</cp:lastPrinted>
  <dcterms:modified xsi:type="dcterms:W3CDTF">2004-11-08T15:26:06Z</dcterms:modified>
  <cp:revision>74</cp:revision>
  <dc:subject/>
  <dc:title>Day 1--The General Purpose Language</dc:title>
</cp:coreProperties>
</file>