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685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18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1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6858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18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——  SimScript II.5  ——————————————   2-</a:t>
            </a:r>
            <a:fld id="{7BF80E99-21AF-4015-8403-7C8FA7A91C20}" type="slidenum"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9144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7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1 - The General Purpose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7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view of SIMSCRIPT II.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 &amp; Synt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ment &amp;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/Out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y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Structure, Routines &amp;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2 - Simulation Constru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&amp; Attrib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LAB Programming Enviro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4114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ng Temporary Entities &amp; Their Attribu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emporary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very AIRPLANE h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n AP.TAIL.NUMBER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n AP.TAKEOFF.WE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AP.TAIL.NUMBER as a text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AP.TAKEOFF.WEIGHT as a real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reate [a]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emporary Enti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temporary entities one at a time (Must be outside of Preamb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 an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reate an AIRPLAN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ed .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an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PLA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created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SCRIPT II.5 allocates enough memory to hold the attributes of one copy of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puts the address of the first word of memory in the global variable,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PLANE or the variable .AP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PLANE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.AP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pointer, not an index like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L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stroy [a]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emporary Enti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roy temporary entities one at a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stroy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stroy an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stroy an AIRPLAN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ed .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both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e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stro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tatements associated with temporary entities, the keyword "a" is optional and can be omitted or replaced by the synonyms "an", "the" or "this.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oring Temporary Entit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914400"/>
            <a:ext cx="87631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066680"/>
            <a:ext cx="252864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81480" y="1146240"/>
            <a:ext cx="232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Behind the Sce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30760" y="2219400"/>
            <a:ext cx="161136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30760" y="2519280"/>
            <a:ext cx="1611360" cy="30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760" y="1881360"/>
            <a:ext cx="285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very AIRPLANE has 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9760" y="3119400"/>
            <a:ext cx="1611360" cy="30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39760" y="3719520"/>
            <a:ext cx="161136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9840" y="3162240"/>
            <a:ext cx="64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AP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9840" y="3762360"/>
            <a:ext cx="64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AP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40520" y="3419640"/>
            <a:ext cx="161136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42560" y="3162240"/>
            <a:ext cx="103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LA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18160" y="458136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reate an AIRPLA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22480" y="4827600"/>
            <a:ext cx="401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reate an AIRPLANE called .AP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2480" y="5075280"/>
            <a:ext cx="401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reate an AIRPLANE called .AP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25360" y="5570640"/>
            <a:ext cx="5182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et AP.TAKEOFF.WEIGHT(AIRPLANE) = 19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25360" y="5816520"/>
            <a:ext cx="5182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et AP.TAKEOFF.WEIGHT(.AP.1)    =  44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0800" y="2674800"/>
            <a:ext cx="1770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2646360"/>
            <a:ext cx="1807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Variable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51440" y="2192400"/>
            <a:ext cx="1092240" cy="1390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27760" y="3457440"/>
            <a:ext cx="115920" cy="125640"/>
          </a:xfrm>
          <a:custGeom>
            <a:avLst/>
            <a:gdLst/>
            <a:ahLst/>
            <a:rect l="l" t="t" r="r" b="b"/>
            <a:pathLst>
              <a:path w="291" h="315">
                <a:moveTo>
                  <a:pt x="227" y="0"/>
                </a:moveTo>
                <a:lnTo>
                  <a:pt x="291" y="315"/>
                </a:lnTo>
                <a:lnTo>
                  <a:pt x="0" y="177"/>
                </a:lnTo>
                <a:lnTo>
                  <a:pt x="203" y="201"/>
                </a:lnTo>
                <a:lnTo>
                  <a:pt x="2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73520" y="2219400"/>
            <a:ext cx="601560" cy="1663560"/>
          </a:xfrm>
          <a:custGeom>
            <a:avLst/>
            <a:gdLst/>
            <a:ahLst/>
            <a:rect l="l" t="t" r="r" b="b"/>
            <a:pathLst>
              <a:path w="1515" h="4193">
                <a:moveTo>
                  <a:pt x="0" y="4193"/>
                </a:moveTo>
                <a:lnTo>
                  <a:pt x="1515" y="0"/>
                </a:lnTo>
                <a:lnTo>
                  <a:pt x="0" y="26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0560" y="3781440"/>
            <a:ext cx="87480" cy="101520"/>
          </a:xfrm>
          <a:custGeom>
            <a:avLst/>
            <a:gdLst/>
            <a:ahLst/>
            <a:rect l="l" t="t" r="r" b="b"/>
            <a:pathLst>
              <a:path w="217" h="255">
                <a:moveTo>
                  <a:pt x="0" y="0"/>
                </a:moveTo>
                <a:lnTo>
                  <a:pt x="30" y="255"/>
                </a:lnTo>
                <a:lnTo>
                  <a:pt x="217" y="78"/>
                </a:lnTo>
                <a:lnTo>
                  <a:pt x="70" y="14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73520" y="3154320"/>
            <a:ext cx="85680" cy="101520"/>
          </a:xfrm>
          <a:custGeom>
            <a:avLst/>
            <a:gdLst/>
            <a:ahLst/>
            <a:rect l="l" t="t" r="r" b="b"/>
            <a:pathLst>
              <a:path w="215" h="256">
                <a:moveTo>
                  <a:pt x="215" y="114"/>
                </a:moveTo>
                <a:lnTo>
                  <a:pt x="0" y="256"/>
                </a:lnTo>
                <a:lnTo>
                  <a:pt x="17" y="0"/>
                </a:lnTo>
                <a:lnTo>
                  <a:pt x="58" y="157"/>
                </a:lnTo>
                <a:lnTo>
                  <a:pt x="215" y="1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2 - Simulation Construc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2 - 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ng Sets - Ownership &amp; Membershi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33720" y="914040"/>
            <a:ext cx="5867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ermanent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AIRLINE h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L.NAME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L.ANNUAL.REVENUE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owns a FLE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mporary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AIRPLANE h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P.TAIL.NUMBER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P.TAKEOFF.WEIGHT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elongs to a FLE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s Have Discipli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-in, first-out (FIFO):  (Defaul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t-in, first-out (LIFO)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FLEET as a LIFO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ked by an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FLEET as a s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anked by low AP.TAKEOFF.WE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case of ties:  FIF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anking done on filing 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Things We Can Do with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91404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tities in a s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set for a particular 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tities from a s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e anywhere outside of the Pream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ing Temporary Entities in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6172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.AIRLINE = 7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.I = 1 to 50 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 an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ad AP.TAIL.NUMBER(AIRPLANE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P.TAKEOFF.WEIGHT(AIRPLA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le AIRPLANE in the FLEET(.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.I = 1 to 5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2 - Simulation Construc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1 - Entities &amp; Attrib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ing Temporary Entities in a Set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80720" y="1371600"/>
            <a:ext cx="5334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AP as a pointer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.AIRLINE = 7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.I = 1 to 50 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reate an AIRPLAN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ed .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ad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P.TAIL.NUMBER(.AP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P.TAKEOFF.WEIGHT(.A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l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AP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in the FLEET(.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‘.I = 1 to 5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Entities are Stored in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838080"/>
            <a:ext cx="8229600" cy="5486400"/>
            <a:chOff x="457200" y="838080"/>
            <a:chExt cx="8229600" cy="5486400"/>
          </a:xfrm>
        </p:grpSpPr>
        <p:sp>
          <p:nvSpPr>
            <p:cNvPr id="192" name=""/>
            <p:cNvSpPr/>
            <p:nvPr/>
          </p:nvSpPr>
          <p:spPr>
            <a:xfrm>
              <a:off x="457200" y="838080"/>
              <a:ext cx="82296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9360" y="1023840"/>
              <a:ext cx="2100240" cy="33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1066680"/>
              <a:ext cx="2895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Behind the Sce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640" y="1650960"/>
              <a:ext cx="161784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640" y="1916280"/>
              <a:ext cx="16178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640" y="2181240"/>
              <a:ext cx="16178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640" y="2446200"/>
              <a:ext cx="161784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640" y="2711520"/>
              <a:ext cx="16178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9760" y="170352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L.NA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1200" y="1969920"/>
              <a:ext cx="1425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L.ANNUAL.REVEN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9760" y="223524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F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760" y="250020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L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9760" y="276552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N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51040" y="2519280"/>
              <a:ext cx="161604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51040" y="2784600"/>
              <a:ext cx="16160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51040" y="3049560"/>
              <a:ext cx="161604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51040" y="3314880"/>
              <a:ext cx="16160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1040" y="3579840"/>
              <a:ext cx="16160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94240" y="2571840"/>
              <a:ext cx="1174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P.TAIL.NUMB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94600" y="2836800"/>
              <a:ext cx="1425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P.TAKEOFF.WEIGH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3160" y="310212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P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92440" y="3368520"/>
              <a:ext cx="134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93160" y="363384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M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01680" y="2217600"/>
              <a:ext cx="102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ddress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82920" y="4484520"/>
              <a:ext cx="102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ddress 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8280" y="1351080"/>
              <a:ext cx="80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IR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54440" y="3676680"/>
              <a:ext cx="16160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4440" y="3941640"/>
              <a:ext cx="161604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4440" y="4206960"/>
              <a:ext cx="16160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4440" y="4471920"/>
              <a:ext cx="161604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54440" y="4737240"/>
              <a:ext cx="161604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97640" y="3728880"/>
              <a:ext cx="1174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P.TAIL.NUMB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98000" y="3994200"/>
              <a:ext cx="1425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P.TAKEOFF.WEIGH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96560" y="426096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P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96560" y="452592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96560" y="479124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M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81960" y="4809960"/>
              <a:ext cx="161748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1960" y="5075280"/>
              <a:ext cx="161748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1960" y="5340240"/>
              <a:ext cx="161748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1960" y="5605560"/>
              <a:ext cx="1617480" cy="26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81960" y="5870520"/>
              <a:ext cx="1617480" cy="26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4800" y="4862520"/>
              <a:ext cx="1174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P.TAIL.NUMB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25160" y="5127480"/>
              <a:ext cx="1425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P.TAKEOFF.WEIGH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3720" y="539280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P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3720" y="565776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23720" y="592452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M.FLE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5760" y="3351240"/>
              <a:ext cx="102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ddress 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313000" y="2325600"/>
              <a:ext cx="62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13000" y="2279520"/>
              <a:ext cx="90360" cy="921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229" y="229"/>
                  </a:moveTo>
                  <a:lnTo>
                    <a:pt x="0" y="115"/>
                  </a:lnTo>
                  <a:lnTo>
                    <a:pt x="229" y="0"/>
                  </a:lnTo>
                  <a:lnTo>
                    <a:pt x="115" y="115"/>
                  </a:lnTo>
                  <a:lnTo>
                    <a:pt x="22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340160" y="3459240"/>
              <a:ext cx="55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40160" y="3413160"/>
              <a:ext cx="90720" cy="921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230"/>
                  </a:moveTo>
                  <a:lnTo>
                    <a:pt x="0" y="116"/>
                  </a:lnTo>
                  <a:lnTo>
                    <a:pt x="230" y="0"/>
                  </a:lnTo>
                  <a:lnTo>
                    <a:pt x="114" y="116"/>
                  </a:lnTo>
                  <a:lnTo>
                    <a:pt x="23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43560" y="4606920"/>
              <a:ext cx="55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43560" y="4560840"/>
              <a:ext cx="92160" cy="92160"/>
            </a:xfrm>
            <a:custGeom>
              <a:avLst/>
              <a:gdLst/>
              <a:ahLst/>
              <a:rect l="l" t="t" r="r" b="b"/>
              <a:pathLst>
                <a:path w="231" h="230">
                  <a:moveTo>
                    <a:pt x="231" y="230"/>
                  </a:moveTo>
                  <a:lnTo>
                    <a:pt x="0" y="115"/>
                  </a:lnTo>
                  <a:lnTo>
                    <a:pt x="231" y="0"/>
                  </a:lnTo>
                  <a:lnTo>
                    <a:pt x="116" y="115"/>
                  </a:lnTo>
                  <a:lnTo>
                    <a:pt x="231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480" y="2325600"/>
              <a:ext cx="2390760" cy="2001960"/>
            </a:xfrm>
            <a:custGeom>
              <a:avLst/>
              <a:gdLst/>
              <a:ahLst/>
              <a:rect l="l" t="t" r="r" b="b"/>
              <a:pathLst>
                <a:path w="6021" h="5042">
                  <a:moveTo>
                    <a:pt x="0" y="0"/>
                  </a:moveTo>
                  <a:lnTo>
                    <a:pt x="6021" y="0"/>
                  </a:lnTo>
                  <a:lnTo>
                    <a:pt x="6021" y="5042"/>
                  </a:lnTo>
                  <a:lnTo>
                    <a:pt x="5534" y="50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3560" y="4281480"/>
              <a:ext cx="92160" cy="9216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231" y="229"/>
                  </a:moveTo>
                  <a:lnTo>
                    <a:pt x="0" y="115"/>
                  </a:lnTo>
                  <a:lnTo>
                    <a:pt x="231" y="0"/>
                  </a:lnTo>
                  <a:lnTo>
                    <a:pt x="116" y="115"/>
                  </a:lnTo>
                  <a:lnTo>
                    <a:pt x="231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8600" y="3459240"/>
              <a:ext cx="2413080" cy="2025720"/>
            </a:xfrm>
            <a:custGeom>
              <a:avLst/>
              <a:gdLst/>
              <a:ahLst/>
              <a:rect l="l" t="t" r="r" b="b"/>
              <a:pathLst>
                <a:path w="6082" h="5102">
                  <a:moveTo>
                    <a:pt x="0" y="0"/>
                  </a:moveTo>
                  <a:lnTo>
                    <a:pt x="6082" y="0"/>
                  </a:lnTo>
                  <a:lnTo>
                    <a:pt x="6082" y="5102"/>
                  </a:lnTo>
                  <a:lnTo>
                    <a:pt x="5778" y="5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70720" y="5438880"/>
              <a:ext cx="92160" cy="918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230"/>
                  </a:moveTo>
                  <a:lnTo>
                    <a:pt x="0" y="114"/>
                  </a:lnTo>
                  <a:lnTo>
                    <a:pt x="230" y="0"/>
                  </a:lnTo>
                  <a:lnTo>
                    <a:pt x="115" y="114"/>
                  </a:lnTo>
                  <a:lnTo>
                    <a:pt x="23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13000" y="2590920"/>
              <a:ext cx="4199040" cy="2917800"/>
            </a:xfrm>
            <a:custGeom>
              <a:avLst/>
              <a:gdLst/>
              <a:ahLst/>
              <a:rect l="l" t="t" r="r" b="b"/>
              <a:pathLst>
                <a:path w="10582" h="7351">
                  <a:moveTo>
                    <a:pt x="10582" y="5103"/>
                  </a:moveTo>
                  <a:lnTo>
                    <a:pt x="10582" y="7351"/>
                  </a:lnTo>
                  <a:lnTo>
                    <a:pt x="364" y="7351"/>
                  </a:lnTo>
                  <a:lnTo>
                    <a:pt x="36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3000" y="2544840"/>
              <a:ext cx="90360" cy="92160"/>
            </a:xfrm>
            <a:custGeom>
              <a:avLst/>
              <a:gdLst/>
              <a:ahLst/>
              <a:rect l="l" t="t" r="r" b="b"/>
              <a:pathLst>
                <a:path w="229" h="230">
                  <a:moveTo>
                    <a:pt x="229" y="230"/>
                  </a:moveTo>
                  <a:lnTo>
                    <a:pt x="0" y="115"/>
                  </a:lnTo>
                  <a:lnTo>
                    <a:pt x="229" y="0"/>
                  </a:lnTo>
                  <a:lnTo>
                    <a:pt x="115" y="115"/>
                  </a:lnTo>
                  <a:lnTo>
                    <a:pt x="229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08240" y="1542960"/>
              <a:ext cx="5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FLE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4720" y="1819440"/>
              <a:ext cx="3210120" cy="217440"/>
            </a:xfrm>
            <a:custGeom>
              <a:avLst/>
              <a:gdLst/>
              <a:ahLst/>
              <a:rect l="l" t="t" r="r" b="b"/>
              <a:pathLst>
                <a:path w="8088" h="547">
                  <a:moveTo>
                    <a:pt x="0" y="0"/>
                  </a:moveTo>
                  <a:lnTo>
                    <a:pt x="0" y="242"/>
                  </a:lnTo>
                  <a:lnTo>
                    <a:pt x="8088" y="242"/>
                  </a:lnTo>
                  <a:lnTo>
                    <a:pt x="8088" y="5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81120" y="1916280"/>
              <a:ext cx="2703600" cy="120600"/>
            </a:xfrm>
            <a:custGeom>
              <a:avLst/>
              <a:gdLst/>
              <a:ahLst/>
              <a:rect l="l" t="t" r="r" b="b"/>
              <a:pathLst>
                <a:path w="6812" h="305">
                  <a:moveTo>
                    <a:pt x="6812" y="0"/>
                  </a:moveTo>
                  <a:lnTo>
                    <a:pt x="0" y="0"/>
                  </a:lnTo>
                  <a:lnTo>
                    <a:pt x="0" y="244"/>
                  </a:lnTo>
                  <a:lnTo>
                    <a:pt x="0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0920" y="276552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7400" y="310212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57400" y="363384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84920" y="479124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37280" y="568332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37280" y="594828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 Attribu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4760" y="83664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manent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.FLEET = Pointer to first airplane in fleet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.FLEET = pointer to last airplane in fl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FLEET = number of airplanes in fl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orary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.FLEET = Pointer to previous airplane in fleet (if this is plane #2, P.FLEET = 1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.FLEET = pointer to next airplane in fl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.FLEET = Pointer to fleet this entity belongs t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iple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04760" y="83664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ermanent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AIRLINE h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L.NAME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L.ANNUAL.REVENUE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owns a FLEET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MAINTENANCE.FAC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mporary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AIRPLANE h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P.TAIL.NUMBER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AP.TAKEOFF.WEIGHT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elongs to a FLEET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MAINTENANCE.FACILITY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iple Se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76440" y="1643040"/>
            <a:ext cx="2386080" cy="384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1676520"/>
            <a:ext cx="2286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ehind the Sce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54560" y="291780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01240" y="2917800"/>
            <a:ext cx="103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IRPLA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6640" y="325908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16640" y="3560760"/>
            <a:ext cx="301788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16640" y="386064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16640" y="416232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16640" y="446400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16640" y="476568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16640" y="5067360"/>
            <a:ext cx="301788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16640" y="536724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6680" y="3301920"/>
            <a:ext cx="1814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P.TAIL.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7760" y="3603600"/>
            <a:ext cx="220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P.TAKEOFF.WEIGH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4520" y="390384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.FLE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4520" y="420516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.FLE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4520" y="450684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.FLE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9200" y="4808520"/>
            <a:ext cx="285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.MAINTENANCE.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9200" y="5108400"/>
            <a:ext cx="285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.MAINTENANCE.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9200" y="5410080"/>
            <a:ext cx="285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.MAINTENANCE.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4800" y="325908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800" y="3560760"/>
            <a:ext cx="301788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4800" y="386064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800" y="416232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4800" y="446400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4800" y="536724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4800" y="4765680"/>
            <a:ext cx="301788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00" y="5067360"/>
            <a:ext cx="3017880" cy="299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680" y="330192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.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5920" y="3603600"/>
            <a:ext cx="220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.ANNUAL.REVEN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2680" y="390384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.FLE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2680" y="420516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.FLE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2680" y="4506840"/>
            <a:ext cx="90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.FLE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880" y="5410080"/>
            <a:ext cx="25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20160" y="5410080"/>
            <a:ext cx="259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TENANCE.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0880" y="5108400"/>
            <a:ext cx="25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20160" y="5108400"/>
            <a:ext cx="259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TENANCE.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7360" y="4808520"/>
            <a:ext cx="285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.MAINTENANCE.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arching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or each .AIRPLANE in the FLEET(.AIRLINE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each .AIRPLANE in the FLEET(.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hrough the FLEET from beginning to e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the address of each entity encountered in the local variable, .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 &lt;statements&gt; before going to next ent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unting While Searching a S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 each .AIRPLANE in the FLEET(.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while .I &lt;= 10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dd 1 to .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Loop ''each .AIRPLANE in the FLEET(.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oving From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520" y="6858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.AIRPLANE in the FLEET(.AIRLIN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ith AP.TAIL.NUMBER(.AIRPLANE) = "N637D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nd the first c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fou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move .AIRPLANE from the FLEET(.AIRLIN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stroy the AIRPLANE called .AIRPLA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if ''foun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oving from Se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move the first AIRPLANE from the FLEET(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e the first entity out of the FLE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its address in the global variable,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AIRPLANE in the FLEET(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ith AP.TAIL.NUMBER(AIRPLANE) = "N637D"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move this AIRPLANE from the FLEET(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stroy this AIRPLA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each AIRPLANE in the FLEET(AIRLIN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tities, Attributes &amp; 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se you are modeling the departure of aircraft from an airpor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ral airlines use the airport.   Each airline has characteristics of importance to our model - a "Name" and an "Annual Revenue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ch airline owns a fleet of airplane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ch airplane in the fleet has some characteristics of interest - a "Tail Number" and a "Takeoff Weight"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 say that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ch airline is a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ntit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&amp; has two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ttribu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 Each airplane is a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ntit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&amp; has two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ttribu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leet is a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e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owne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y the airline.  Airplanes are members of the fleet and are said to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belo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 the se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re are 3 attributes per set automatically added to the owner of the set and another 3 attributes added automatically to each member of the se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2 - Simulation Construc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3 - SIMLAB Programming Enviro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w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t Directory for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en Director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ter Project Name and Cre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t Project Op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 Project Op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t “sources”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eate new f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eate Preamb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tities, Attributes &amp; Se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838080"/>
            <a:ext cx="8686800" cy="5410440"/>
            <a:chOff x="228600" y="838080"/>
            <a:chExt cx="8686800" cy="5410440"/>
          </a:xfrm>
        </p:grpSpPr>
        <p:sp>
          <p:nvSpPr>
            <p:cNvPr id="48" name=""/>
            <p:cNvSpPr/>
            <p:nvPr/>
          </p:nvSpPr>
          <p:spPr>
            <a:xfrm>
              <a:off x="228600" y="838080"/>
              <a:ext cx="8686800" cy="5410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3400" y="1851120"/>
              <a:ext cx="2416320" cy="255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3400" y="2106720"/>
              <a:ext cx="2416320" cy="257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3400" y="2363760"/>
              <a:ext cx="2416320" cy="255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3400" y="1081080"/>
              <a:ext cx="2416320" cy="257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3400" y="1338120"/>
              <a:ext cx="2416320" cy="255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400" y="1593720"/>
              <a:ext cx="2416320" cy="25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2280" y="113040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IR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2280" y="13971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.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0840" y="1612800"/>
              <a:ext cx="18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.ANNUAL.REVEN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280" y="19000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.FL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2280" y="2157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.FL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2280" y="24130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.FL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57760" y="1855800"/>
              <a:ext cx="2424240" cy="257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7760" y="2112840"/>
              <a:ext cx="2424240" cy="255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7760" y="2368440"/>
              <a:ext cx="2424240" cy="25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57760" y="1087560"/>
              <a:ext cx="2424240" cy="255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57760" y="1343160"/>
              <a:ext cx="2424240" cy="257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57760" y="1600200"/>
              <a:ext cx="2424240" cy="255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80160" y="11574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IRPL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79080" y="1414440"/>
              <a:ext cx="149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P.TAIL.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78720" y="1670040"/>
              <a:ext cx="18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P.TAKEOFF.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80160" y="19270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.FL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80160" y="21747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.FL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0160" y="24303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.FL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17840" y="3444840"/>
              <a:ext cx="1216080" cy="1216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43520" y="3747960"/>
              <a:ext cx="1217520" cy="1216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40040" y="4052880"/>
              <a:ext cx="1216080" cy="121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7080" y="4356000"/>
              <a:ext cx="1216080" cy="1216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21240" y="443556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89520" y="411156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05400" y="351648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8880" y="382572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237520" y="1200240"/>
              <a:ext cx="320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54400" y="4425840"/>
              <a:ext cx="2585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54760" y="4349880"/>
              <a:ext cx="152280" cy="152280"/>
            </a:xfrm>
            <a:custGeom>
              <a:avLst/>
              <a:gdLst/>
              <a:ahLst/>
              <a:rect l="l" t="t" r="r" b="b"/>
              <a:pathLst>
                <a:path w="383" h="384">
                  <a:moveTo>
                    <a:pt x="383" y="384"/>
                  </a:moveTo>
                  <a:lnTo>
                    <a:pt x="0" y="192"/>
                  </a:lnTo>
                  <a:lnTo>
                    <a:pt x="383" y="0"/>
                  </a:lnTo>
                  <a:lnTo>
                    <a:pt x="383" y="38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575160" y="1235160"/>
              <a:ext cx="1440" cy="236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182760" y="1224000"/>
              <a:ext cx="387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82760" y="1147680"/>
              <a:ext cx="152640" cy="152640"/>
            </a:xfrm>
            <a:custGeom>
              <a:avLst/>
              <a:gdLst/>
              <a:ahLst/>
              <a:rect l="l" t="t" r="r" b="b"/>
              <a:pathLst>
                <a:path w="382" h="382">
                  <a:moveTo>
                    <a:pt x="382" y="382"/>
                  </a:moveTo>
                  <a:lnTo>
                    <a:pt x="0" y="191"/>
                  </a:lnTo>
                  <a:lnTo>
                    <a:pt x="382" y="0"/>
                  </a:lnTo>
                  <a:lnTo>
                    <a:pt x="382" y="38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22680" y="4572000"/>
              <a:ext cx="19087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IRP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"belong to"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58280" y="1203480"/>
              <a:ext cx="1440" cy="32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8080" y="2994120"/>
              <a:ext cx="204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set FLEET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7720" y="3255840"/>
              <a:ext cx="226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wned by AIR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0600" y="5834160"/>
              <a:ext cx="80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e Preamb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 for Mai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ose the fi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914400" y="912960"/>
            <a:ext cx="73137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nge Indicat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V="1">
            <a:off x="304920" y="1600200"/>
            <a:ext cx="5331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ild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ild Results Indicat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V="1">
            <a:off x="533520" y="1752480"/>
            <a:ext cx="5331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tus Messag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V="1">
            <a:off x="304920" y="5867280"/>
            <a:ext cx="5331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 Mai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ple Incorrect Co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ose Main without Sav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914400" y="912960"/>
            <a:ext cx="73137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SCRIPT has two Entity Typ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rmanent ent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used when all of the entities of that type will exist throughout the simulation ru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in an airport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ler in a bank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rcuit in a communications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g in a port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mporary ent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used when the entities may be created or destroyed during the simulation ru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plane in an airport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in a bank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or message in a communications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p in a port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e Mai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ild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rror Indicat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 flipV="1">
            <a:off x="380880" y="5867280"/>
            <a:ext cx="53352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uble Click on Error Statemen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 Main and save when clos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il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912960" y="91440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rning Messag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 flipV="1">
            <a:off x="380880" y="5715000"/>
            <a:ext cx="53352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 Main and Save when Clos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ild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cute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ng Permanent Entities &amp; Their Attribu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ermanent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very AIRLINE h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n AL.NAME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n AL.ANNUAL.REVEN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AL.NAME as a text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AL.ANNUAL.REVENUE as a real var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ntime Debugge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37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bugger Command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st Command (i.e. "ls"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it Debugge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eanup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ose Projec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2960" y="912960"/>
            <a:ext cx="73134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rcise 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hrow Airpor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:\Program Files\Simscript3\models\Problem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throw Airpor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hrow Airport, near London, has a fixed number of landing approaches.  Each approach has a set of check poi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iven an approach, an aircraft starts at the first check point, flies to each check point in turn until it lands at the last o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ata is in a file calle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ESTAPR.D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te a program to create the appropriate entities, read the data and print it.  List the attributes of all check points in each approach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STAPR.D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This file lists the western approaches to Heathrow Airport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London Engl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The first number is the number of approach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This is followed by the name of the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Each approach is followed by a check point consis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of the check point number and the X,Y coordina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''  in miles from the orig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Western approaches to Heathrow Airport, Lond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ola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0  2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10  1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10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13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16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20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ester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0   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10  1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10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13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16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20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reate Ea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ermanent Enti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opies of permanent entities are created or destroyed at the same time (must be outside of Preamb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743200"/>
            <a:ext cx="358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reate each AIRLINE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reate every AIRLINE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Let N.AIRLINE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reate each AIR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outher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10  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10  1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10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13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16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20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ontinenta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15   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20   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10  1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10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13 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16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 20  1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stroy Ea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ermanent Enti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-160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opies of permanent entities are created or destroyed at the same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0920" indent="-160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both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eate Eac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stroy Eac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tatements associated with permanent entities, the "each" part of the phrase is mandatory.   However, the synonyms "every" and "all" can be substituted for "each.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4382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Destroy each AIR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Destroy every AIR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oring Permanent Entit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914400"/>
            <a:ext cx="7619760" cy="5333760"/>
            <a:chOff x="762120" y="914400"/>
            <a:chExt cx="7619760" cy="5333760"/>
          </a:xfrm>
        </p:grpSpPr>
        <p:sp>
          <p:nvSpPr>
            <p:cNvPr id="104" name=""/>
            <p:cNvSpPr/>
            <p:nvPr/>
          </p:nvSpPr>
          <p:spPr>
            <a:xfrm>
              <a:off x="762120" y="914400"/>
              <a:ext cx="7619760" cy="53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24600" y="1395360"/>
              <a:ext cx="1117800" cy="42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2325600"/>
              <a:ext cx="1117440" cy="42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11680" y="3894120"/>
              <a:ext cx="47916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33600" y="3894120"/>
              <a:ext cx="47808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68920" y="389412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90840" y="389412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27600" y="3894120"/>
              <a:ext cx="47808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48440" y="3894120"/>
              <a:ext cx="47916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4840" y="389412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05680" y="3894120"/>
              <a:ext cx="47916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42080" y="389412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3894120"/>
              <a:ext cx="4777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1680" y="5276880"/>
              <a:ext cx="47916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33600" y="5276880"/>
              <a:ext cx="47808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68920" y="527688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0840" y="5276880"/>
              <a:ext cx="47808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7600" y="5276880"/>
              <a:ext cx="47808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48440" y="5276880"/>
              <a:ext cx="47916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84840" y="527688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5680" y="5276880"/>
              <a:ext cx="47916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2080" y="5276880"/>
              <a:ext cx="4795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4360" y="5276880"/>
              <a:ext cx="477720" cy="74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9360" y="36176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98880" y="36176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6600" y="36194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6120" y="36176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3840" y="36194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3360" y="36194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2880" y="36194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0600" y="36176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50120" y="36194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5640" y="361764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9880" y="420192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L.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1320" y="5557680"/>
              <a:ext cx="20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L.ANNUAL.REVE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57080" y="210348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IR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98680" y="114588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.AIR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50120" y="14922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4080" y="1439640"/>
              <a:ext cx="427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manent entities are stored as ar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31200" y="1693800"/>
              <a:ext cx="313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"rows" are the 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30480" y="1946160"/>
              <a:ext cx="330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"columns" are the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32640" y="2200320"/>
              <a:ext cx="371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attribute is a separate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1T02:46:42Z</dcterms:created>
  <dc:creator>Michael L. Samuels</dc:creator>
  <dc:description/>
  <dc:language>en-US</dc:language>
  <cp:lastModifiedBy>jprince</cp:lastModifiedBy>
  <cp:lastPrinted>1999-03-31T16:47:16Z</cp:lastPrinted>
  <dcterms:modified xsi:type="dcterms:W3CDTF">2004-11-01T22:32:43Z</dcterms:modified>
  <cp:revision>80</cp:revision>
  <dc:subject/>
  <dc:title>Day 1--The General Purpose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caciasl.com</vt:lpwstr>
  </property>
  <property fmtid="{D5CDD505-2E9C-101B-9397-08002B2CF9AE}" pid="9" name="LinkColor">
    <vt:r8>16711782</vt:r8>
  </property>
  <property fmtid="{D5CDD505-2E9C-101B-9397-08002B2CF9AE}" pid="10" name="MailAddress">
    <vt:lpwstr>mikes@caciasl.com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CLASSROOM\CLASSsimscript\JuneSimscript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