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——  SimScript II.5  ——————————————   1-</a:t>
            </a:r>
            <a:fld id="{85ABA54C-0BA7-4BA1-B80E-6B576D02A9FC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9144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7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1 - The General Purpos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7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tion to SIMSCRIPT II.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&amp; Synt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ment &amp;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/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Structure, Routines &amp;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2 - Simulation Constr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&amp; 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LAB Programming Enviro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phics F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amble, Main, &amp; Routi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build Al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ile, Link =&gt;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ject Built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304920" y="5943600"/>
            <a:ext cx="5331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ndard In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cific Port Probl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ndard Out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2 - Variables &amp; Synt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able Na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mbination of letters, digits, periods and underscores that is not a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ATIONAL.STOCK.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1.3.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ing periods make a difference; trailing periods don'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Y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not the same 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YES.. = Y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1 - Introduction to SIMSCRIPT II.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able Nam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SCRIPT II.5 variables begin or end with a single let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i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(constant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RESOURCE (RESOURCE queu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ours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(variable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.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RESOURCE (first in queu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rt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(function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N.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RESOURCE (number in queu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me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(routine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.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RESOURCE (last in queu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variables and functions should not begin or end in a single let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unction LOADING.TIME.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have a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NUMBER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al, doub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MONEY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5.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ph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GRADE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"A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TITLE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"Gone with the Wind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in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reate an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T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bprogram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ROUTINE.NAME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TITL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variables must be typed by SIMSCRIPT II.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 defin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GROSS.TAKE.OFF.WEIGHT as a real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I, J, and K as integer variab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ault defin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ormally mode is inte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ine GROSS.TAKE.OFF.WEIGHT as a real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1 to 10 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ormally mode is undefin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me Style Conven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SIMSCRIPT II.5 words are capitals and lower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user-defined words are upper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global variables begin with a word or acronym (defined in the Preamb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IRCRA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C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TAIL.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local variables begin with a single period (Defined in routines and functio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CRA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nta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statement begins with key 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NUMBER.OF.GATES = 2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ubtr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 from NUMBER.OF.GAT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words are not reserved 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tatement delimi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s begin with 2 apostrophes ('') and end either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At the end of the record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At the next pair of apostrophes (on the same 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PAYLOAD = 30000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'poun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ntax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SCRIPT II.5 is field oriented (not record orient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ds are fields--anything between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two blanks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a blank and carriage retur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't break word at end of l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ments can begin anywhere, end any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ds must be in proper o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3 - Assignment &amp;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X = X +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dd 1 to 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ubtract 2 from NUMBER.OF.AVAILABLE.PILO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.ANSWER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5/3 + 2 * (A*C)**2) -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AIRLINE = "DELTA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..Else..Endif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&lt;logical expression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di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f A &gt; 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dd 1 to 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dd 1 to 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di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''A &gt; 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gical Express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al expressions may be simple or compou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imple logical expression is a single comparison such a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**2 - 4*A*C &lt; &gt;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und logical expressions are just simple logical expressions connected by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parenthe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AIRLINE = "DELTA"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IGHT  = "DL145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X &lt; = B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C = D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E = F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ling &amp; Simu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690480"/>
            <a:ext cx="62481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goals and define the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system services and expected outc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"Measures of Effectiveness" an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Measures of Performance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parameters that affect MOEs and MO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factors and appropriate levels to stud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evaluation tech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al Mode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ication &amp; Valid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 experi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experiments, analyze and interpret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 resul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se State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lect case TOD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se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DAY = "Sunday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se 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DAY = "Saturday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se 2 to 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DAY = "Weekday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aul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DAY = "TODAY can only range from 1 to 7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Endselec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''TOD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case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.LET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se "A","E","I","O","U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RESULT = ..VOW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aul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RESULT = ..CONSONA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sel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se Statemen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599840"/>
            <a:ext cx="563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case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.PROB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se 0.0 to .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UNLOADING.TIME = 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se .25 to .8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UNLOADING.TIME = 2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se .80 to 1.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UNLOADING.TIME = 3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aul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select ''.PROB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Loo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or I = 1 to 10 by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''I = 1 to 10 by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J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ack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from 20 to 1 by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J back from 20 to 1 by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le &amp; Until Loop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7760" y="1142640"/>
            <a:ext cx="327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hile M &lt; 10000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M = M * 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dd 1 to 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op ''M &lt; 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Until M &gt;= 10000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M = M * 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dd 1 to 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op ''M &gt;= 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rmination Phra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I = 1 to 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while SUM &lt;= MAX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I = 1 to 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This loop will continue until either I exceeds N or  SUM exceeds MAX, whichever occurs first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ion Phras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I = 1 to 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with VALUE(I) &gt; 9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dd VALUE(I) - 9 to .POINT.COU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I = 1 to 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This loop will iterate 13 times, executing the Add statement only when Value(I) &gt; 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4 - Input &amp; 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 Form In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720" y="6858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ad SQUADRON.NUMBER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UTHORIZED.STRENGTH a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QUADRON.NA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ossible data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74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522.TF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522.TF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atted In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ad SQUADRON.NUMBER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UTHORIZED.STRENGTH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UADRON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s /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 5,s 1,d(10,0),s 1,t 2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ad SQUADRON.NAME 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 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522nd Tactical Fighter Squadron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put Control State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Variables can test characteristics of input data before the data are r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field.f, efield.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ing/ending column of nex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fie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 of next data fiel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at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ce/absence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038480"/>
            <a:ext cx="59436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ata is not ende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ad SQUADRON.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UTHORIZED.STR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UADRON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data is not 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view of SIMSCRIPT II.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omplete general-purpose programming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lish like synt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tructures make programming easier and fas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ly portabl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owerful discrete-event simulation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s a system as it evolves over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ing routine and event set handled automatic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random number generation &amp; statistics colle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ted graphics language SIMGRAPH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-Interface fo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 graph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 Form Out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ist SQUADRON.NUMBER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UTHORIZED.STRENGTH a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QUADRON.NA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ffff00"/>
                </a:solidFill>
                <a:latin typeface="Courier New"/>
              </a:rPr>
              <a:t>Output Looks Like Thi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UADRON.NUMBER = 1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UTHORIZED.STRENGTH = 17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UADRON.NAME = 522.TF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atted Out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rint 4 lines with SQUADRON.NUMBER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UTHORIZED.STRENGTH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QUADRON.NAME th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QUADRON NUMBER: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***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UTHORIZED STRENGTH: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***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QUADRON NAME: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************************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atted Output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pen unit 10 for output, name = "RESULTS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Use unit 10 for 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rite SQUADRON.NUMBER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UTHORIZED.STRENGTH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UADRON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s /,s 4,"SQUADRON.NUMBER:",s 1,i 4,/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AUTHORIZED.STRENGTH:",s 1,i 4,/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 6,"SQUADRON.NAME:",s 1,t 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using unit 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atted Output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3657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 start a new lin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rt new li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 introduce blank lin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kip n l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 go to a new output pag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rt new pa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tles on Every P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7400" y="91440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heading.v = 'TITLE'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 date.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Yield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ATE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utin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int 2 lines with DATE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th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*****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*****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al Re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tles on Every Page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nes.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 of lines per p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default = 55,  0 implies no page break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ne.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line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agecol.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s number pages with PAGE beginning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Use unit 20 for 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pagecol.v =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lines.v = 3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Use unit 21 for 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pagecol.v = 6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lines.v = 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5 - Array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ng Array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s have mode and dimensiona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elements have same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 and dimensionality determined at compile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ize of the array may be determined at run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ine AIRPORT as a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1-dimensional, text arr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ine TABLE as a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3-dim, re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arr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itializing Array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pace for an array is allocated during execution as follow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serve AIRPORT as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serve TABLE 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10 by 32 by 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pace for an array is released during execution as follow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lease AIRPORT, T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nipulating Array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 elements are referenced by subscribing the array 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AIRPORT(5) = "Dallas-Ft.Worth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ABLE(5,3,7) = 16.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cript values range from 1 to the specified maximu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view of SIMSCRIPT II.5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120" y="1066320"/>
            <a:ext cx="3962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&amp; 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ands and Synt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stru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Behind the Scenes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Hand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Process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ing Array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ine AIRPORT as a 1-dimensional, text arr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serve AIRPORT as 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0"/>
            <a:ext cx="716256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832200"/>
            <a:ext cx="2087280" cy="397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29280"/>
            <a:ext cx="2087280" cy="39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627440"/>
            <a:ext cx="2087280" cy="397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5024520"/>
            <a:ext cx="2087280" cy="398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23040"/>
            <a:ext cx="2087280" cy="39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98840" y="39290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8840" y="43340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2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8840" y="47372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98840" y="51260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4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8840" y="553248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5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9840" y="3495600"/>
            <a:ext cx="1072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483000"/>
            <a:ext cx="2089440" cy="39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25480" y="35672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ORT(*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16320" y="4040280"/>
            <a:ext cx="166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3760" y="3665520"/>
            <a:ext cx="2687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68880" y="3589200"/>
            <a:ext cx="152640" cy="152640"/>
          </a:xfrm>
          <a:custGeom>
            <a:avLst/>
            <a:gdLst/>
            <a:ahLst/>
            <a:rect l="l" t="t" r="r" b="b"/>
            <a:pathLst>
              <a:path w="384" h="382">
                <a:moveTo>
                  <a:pt x="0" y="0"/>
                </a:moveTo>
                <a:lnTo>
                  <a:pt x="384" y="191"/>
                </a:lnTo>
                <a:lnTo>
                  <a:pt x="0" y="38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511360"/>
            <a:ext cx="3679920" cy="46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2590920"/>
            <a:ext cx="306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hind th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1 - The General Purpos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6 - Program Structure, Routines &amp;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ram Structu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eam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initions only--no executable stat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 global variables must be defined explicitly in the pream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on start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cal variables are local to routine where defin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script II.5 routines are recurs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arate local memory for each ca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st have an E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ine FIND.NAME as a text fun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 ''Pream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ine .SOCIAL.SECURITY.NUMBER as an integer vari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ine .NAME as a text vari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SOCIAL.SECURITY.NUMBER = 5005512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NAME 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IND.NAME(.SOCIAL.SECURITY.NUMBE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 ''Ma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unction FIND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NUMB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''Social security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NUMBER as an integer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LAST.NAME as a text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... &lt;statements&gt;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turn with .LAST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''FIND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stem Func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are a large number of system functions.  For 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bs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bsolute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rcsin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ig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tot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PHA to TEXT conver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ta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stical distribu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ate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verts a calendar date to simulation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rac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hematica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hr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it shift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bstr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urns a substring of a text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pper.f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verts letters to upper ca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See Reference Manual, Section 1.8, Table 6, p. 21ff.  - "Go to page 39" in Acrobat Reader - In the online help, pick SIMSCRIPT II.5 - System functions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uti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ine .SOCIAL.SECURITY.NUMBER as an integer vari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fine .NAME as a text vari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SOCIAL.SECURITY.NUMBER = 5005512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FIND.NA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.SOCIAL.SECURITY.NUMB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Yiel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.NA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 ''Ma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utin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outine FIND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NUMB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''Social security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Yield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LAST.NAM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''Name of the person with that SS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NUMBER as an integer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LAST.NAME as a text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tur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FIND.N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SCRIPT Demonstr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5840" y="2514240"/>
            <a:ext cx="2514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enviro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ug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19520" y="2666880"/>
            <a:ext cx="5331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38444" b="43756"/>
          <a:stretch/>
        </p:blipFill>
        <p:spPr>
          <a:xfrm>
            <a:off x="3352680" y="1447920"/>
            <a:ext cx="540252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ata File with Com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SIMSCRIPT\MODELS\Read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4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 Using Routines &amp; I/O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Data File with Com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gram uses a separate routine to read each fi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ile begins with a record listing the name of the routine and the date of the fi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followed by one or more comments.  The comment section ends when a numerical field is found at the beginning of a recor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ead routine compares the name in the first record with the name of the routine.  If they are not the same, the routine prints an error message and stop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 it reads the data and prints i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writing to an output file instead of a wind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 F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NP.220.READ.AIRCRAFT.DATA    2-12-198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Aircraft location 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Given authorized number and location of each aircraft 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    a.  Type of aircraft (tex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    b.  Authorized number of aircraft (intege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    c.  Location of aircraft (text) - location must be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''            enclosed by apostroph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End of comments; data start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-15   72   'Langley AFB VA'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-16   24   'Hill AFB UT'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838080"/>
            <a:ext cx="7966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  '' Program to Read and Print a Commented Data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  '' files: READFILE.SIM, ACFT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Normally mode is un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  End ''Pre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     Call INP.220.READ.AIRCRAFT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int 2 lines th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ess &lt;CR&gt; to end program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8     Read as / using uni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  End ''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Routine INP.220.READ.AIRCRAFT.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Define .AUTHORIZED.NUMBER as an integer variabl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Define .ROUTINE.NAM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SHORT.NAM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DAT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AIRCRAFT.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LOC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as text variab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  ''  Open the input unit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Open unit 10 for input, name = "ACFT.DAT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5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se  unit 10 for inp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7  ''  Read the file name and date; if not correct, print error mess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8  ''  and stop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0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Read .ROUTINE.NAM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1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DA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3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Let  .SHORT.NAME = substr.f(.ROUTINE.NAME, 1, 7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5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.SHORT.NAME is not equal to "INP.220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7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int 2 lines with .SHORT.NAME thu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File name does not agree with routine 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*******    INP.22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1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ra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2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top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4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Endif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''.SHORT.NAME is not equal to "INP.220"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5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6  ''  Print the name and date to the standard output; skip 2 lin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7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8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int 1 line with .ROUTINE.NAME,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9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DATE thu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******************************     **********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1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2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kip 2 output lin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3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4  ''  Jump over the comments in the data fil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5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6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hile mode is alpha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7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D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8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tart new recor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9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Loop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''mode is alpha d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0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1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tart new input recor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2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3  ''  As long as there is data in the file, read 3 fields and print them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4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5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hile data is not ende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6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D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7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8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Read .AIRCRAFT.NAM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9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AUTHORIZED.NUMB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0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Read .LOCATION as t *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1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2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int 1 line with .AIRCRAFT.NAME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3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AUTHORIZED.NUMBER 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4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.LOCATION thu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*****   **  *********************************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6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7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Loop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''data is not en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85800"/>
            <a:ext cx="7848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9  ''  Close the input unit and 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1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lose uni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3  End ''INP.2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P.220.READ.AIRCRAFT.DATA         2-12-198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-15    72  Langley AFB VA      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-16    24  Hill AFB UT         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isting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en "Calship" Director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en "Calship.sp"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1T02:46:42Z</dcterms:created>
  <dc:creator>Michael L. Samuels</dc:creator>
  <dc:description/>
  <dc:language>en-US</dc:language>
  <cp:lastModifiedBy>jprince</cp:lastModifiedBy>
  <cp:lastPrinted>1999-03-31T16:44:51Z</cp:lastPrinted>
  <dcterms:modified xsi:type="dcterms:W3CDTF">2004-11-01T21:28:12Z</dcterms:modified>
  <cp:revision>94</cp:revision>
  <dc:subject/>
  <dc:title>Day 1--The General Purpose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caciasl.com</vt:lpwstr>
  </property>
  <property fmtid="{D5CDD505-2E9C-101B-9397-08002B2CF9AE}" pid="9" name="LinkColor">
    <vt:r8>16711782</vt:r8>
  </property>
  <property fmtid="{D5CDD505-2E9C-101B-9397-08002B2CF9AE}" pid="10" name="MailAddress">
    <vt:lpwstr>mikes@caciasl.com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CLASSROOM\CLASSsimscript\JuneSimscript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