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841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837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837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84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84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84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75960"/>
            <a:ext cx="9144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841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1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——————————  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CACI Products Company  ———————————————————————————————  SimScript II.5  ——————————————   5-</a:t>
            </a:r>
            <a:fld id="{6D40702A-9DE4-465D-BAC1-CE5A2310FFFE}" type="slidenum"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y 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80720" y="1219320"/>
            <a:ext cx="5867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ion 5 - Event Approach to Sim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ation of the Event Appro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celing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rcise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ion 6 - Simulation Output 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om Numbers and Statis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rnizing a Bank - with re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entation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rcise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371600" y="1469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5 - The Event Approach to Simula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 2 - Implementation of the Event Appro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Airport Model (revisit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an example of discrete event simulation, let's rewrite the process version of the airport as a sequence of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'll break the process DEPARTURE into two events, use sets to simulate the resource, RUNWAY, and put the waiting time data in a temporary ent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Pream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'' The Airport Model using events - CACI Products Compa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'' files: AIRPORT1.SR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 Normally mode is undefin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   Event notices inclu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  AIRPLANE.GENERATOR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      NEW.AIRPLAN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   END.TAKEOFF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      FINAL.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Every END.TAKEOFF h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 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an ET.AIRCRAFT.POI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7   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Define ET.AIRCRAFT.POINTER as a pointer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9     Temporary ent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1        Every AIRPLANE h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           an AP.BEGIN.WAIT.TIME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3   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belongs to the QUE.RUNWAY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4              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the EXE.RUN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6           Define AP.BEGIN.WAIT.TIME as a real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8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The system ow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9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the QUE.RUNWAY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0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the EXE.RUN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1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2  '' Global variab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3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4     Define MINIMUM.INTER.DEPARTURE.TIM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5            MAXIMUM.INTER.DEPARTURE.TIM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6            MINIMUM.TAKE.OFF.TIM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7            MAXIMUM.TAKE.OFF.TIME 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8            RUN.LENG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9     as real variab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0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1     Define NO.OF.RUNWAYS 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2            MAX.NO.OF.WAITING.AIRPLA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3     as integer variab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4     Define MAX.WAITING.TIME as a real vari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5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6  End ''Pream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1148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Call READ.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 Schedule a FINAL.REPORT in RUN.LENGTH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 Schedule an AIRPLANE.GENERATOR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   Start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End ''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Routine READ.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Print 3 lines th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Enter the minimum and maximum times between airplane depar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(in minut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Minimum tim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Read MINIMUM.INTER.DEPARTURE.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Print 1 line th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Maximum tim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Read MAXIMUM.INTER.DEPARTURE.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   Print 2 lines th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Enter the minimum and maximum takeoff times (in minut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Minimum tim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6     Read MINIMUM.TAKE.OFF.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     Print 1 line th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Maximum tim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     Read MAXIMUM.TAKE.OFF.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1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     Print 1 line th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Enter the number of run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4     Read NO.OF.RUN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6     Print 1 line th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Enter the run length (in hour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8     Read RUN.LENG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9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0  End ''READ.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09480" y="34596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Event AIRPLANE.GENER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saving the event not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 Define .TIME.TO.QUIT as a real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 Let .TIME.TO.QUIT = RUN.LENGTH / hours.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   If time.v &lt;= .TIME.TO.QU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      Schedule a NEW.AIRPLANE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Reschedule this AIRPLANE.GENERATOR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         in uniform.f(MINIMUM.INTER.DEPARTURE.TIM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                      MAXIMUM.INTER.DEPARTURE.TIM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                      1) minu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   Endif ''time.v &lt;= .TIME.TO.QU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6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7  End ''AIRPLANE.GENER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88476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Event FINAL.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Print 4 lines with time.v * hours.v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                    MAX.WAITING.TIME * hours.v * minutes.v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                    MAX.NO.OF.WAITING.AIRPLANES th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he simulation ended at **.*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he maximum waiting time was **.**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he maximum number of aircraft waiting at any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ime was **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Read as / using unit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  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End ''FINAL.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Event NEW.AIRPL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Define .AP as an integer variab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Create an AIRPLANE called .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If N.EXE.RUNWAY &lt; NO.OF.RUN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  File .AP in the EXE.RUN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Schedule an END.TAKEOF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Giv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      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.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         in uniform.f(MINIMUM.TAKE.OFF.TIM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                      MAXIMUM.TAKE.OFF.TIM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                      2) minu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7     E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9        File .AP in the QUE.RUN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        Let AP.BEGIN.WAIT.TIME(.AP) = time.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1        Let MAX.NO.OF.WAITING.AIRPL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           = max.f(N.QUE.RUNWAY, MAX.NO.OF.WAITING.AIRPLAN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3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4     Endif ''N.EXE.RUNWAY &lt; NO.OF.RUN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6  End ''NEW.AIRPL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Event END.TAKEOF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   Giv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    .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 Define .AC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        .AIRPLA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as pointer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Define .WAITING.TIME as a real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Remove .AC from the EXE.RUN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   Destroy the AIRPLANE called .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   If the QUE.RUNWAY is not emp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      Remove the first .AIRPLANE from the QUE.RUN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6        File .AIRPLANE in the EXE.RUN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7        Schedule an END.TAKEOF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           Giv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9                .AIRPL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           in uniform.f(MINIMUM.TAKE.OFF.TIM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1                        MAXIMUM.TAKE.OFF.TIM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                        2) minu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3        Let .WAITING.TIME = time.v - AP.BEGIN.WAIT.TIME(.AIRPLAN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4        Let MAX.WAITING.TIME = max.f(.WAITING.TIME, MAX.WAITING.TIM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5     Endif ''the QUE.RUNWAY is not emp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7  End ''END.TAKEOF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er the minimum and maximum times between airplane departu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(in minut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inimum time: 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ximum time: 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er the minimum and maximum takeoff times (in minut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ximum time: 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inimum time: 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er the number of runways 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er the run length (in hours)  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The simulation ended at 10.0 hou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The maximum waiting time was  8.03 minu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The maximum number of aircraft waiting at any 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time was  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2763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page is intentionally blank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5 - The Event Approach to Simula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 -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5 - The Event Approach to Simula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3 - Canceling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re on The Event Se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880" y="914400"/>
            <a:ext cx="8458200" cy="5410080"/>
            <a:chOff x="380880" y="914400"/>
            <a:chExt cx="8458200" cy="5410080"/>
          </a:xfrm>
        </p:grpSpPr>
        <p:sp>
          <p:nvSpPr>
            <p:cNvPr id="96" name=""/>
            <p:cNvSpPr/>
            <p:nvPr/>
          </p:nvSpPr>
          <p:spPr>
            <a:xfrm>
              <a:off x="380880" y="914400"/>
              <a:ext cx="8458200" cy="541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23960" y="2661840"/>
              <a:ext cx="1541520" cy="428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70120" y="3403440"/>
              <a:ext cx="1255680" cy="426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23960" y="5511600"/>
              <a:ext cx="1541520" cy="426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65480" y="2661840"/>
              <a:ext cx="1539720" cy="428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05200" y="2661840"/>
              <a:ext cx="1540080" cy="428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5280" y="2661840"/>
              <a:ext cx="1541160" cy="428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65480" y="5511600"/>
              <a:ext cx="1539720" cy="426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05200" y="5511600"/>
              <a:ext cx="1540080" cy="426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5280" y="5511600"/>
              <a:ext cx="1541160" cy="426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09840" y="3403440"/>
              <a:ext cx="1255680" cy="426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51360" y="3403440"/>
              <a:ext cx="1253880" cy="426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19880" y="3403440"/>
              <a:ext cx="1255680" cy="426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09840" y="4144680"/>
              <a:ext cx="1255680" cy="426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09840" y="4829040"/>
              <a:ext cx="1255680" cy="426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51360" y="4144680"/>
              <a:ext cx="1253880" cy="426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96880" y="3092040"/>
              <a:ext cx="1800" cy="31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40000" y="3292200"/>
              <a:ext cx="114120" cy="11412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0"/>
                  </a:moveTo>
                  <a:lnTo>
                    <a:pt x="144" y="287"/>
                  </a:lnTo>
                  <a:lnTo>
                    <a:pt x="0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96880" y="3833640"/>
              <a:ext cx="1800" cy="1680840"/>
            </a:xfrm>
            <a:custGeom>
              <a:avLst/>
              <a:gdLst/>
              <a:ahLst/>
              <a:rect l="l" t="t" r="r" b="b"/>
              <a:pathLst>
                <a:path w="0" h="4237">
                  <a:moveTo>
                    <a:pt x="0" y="0"/>
                  </a:moveTo>
                  <a:lnTo>
                    <a:pt x="0" y="3016"/>
                  </a:lnTo>
                  <a:lnTo>
                    <a:pt x="0" y="42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40000" y="5400360"/>
              <a:ext cx="114120" cy="114120"/>
            </a:xfrm>
            <a:custGeom>
              <a:avLst/>
              <a:gdLst/>
              <a:ahLst/>
              <a:rect l="l" t="t" r="r" b="b"/>
              <a:pathLst>
                <a:path w="287" h="288">
                  <a:moveTo>
                    <a:pt x="287" y="0"/>
                  </a:moveTo>
                  <a:lnTo>
                    <a:pt x="144" y="288"/>
                  </a:lnTo>
                  <a:lnTo>
                    <a:pt x="0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38400" y="3092040"/>
              <a:ext cx="1800" cy="31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81160" y="3292200"/>
              <a:ext cx="114480" cy="11412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0"/>
                  </a:moveTo>
                  <a:lnTo>
                    <a:pt x="143" y="287"/>
                  </a:lnTo>
                  <a:lnTo>
                    <a:pt x="0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38400" y="3833640"/>
              <a:ext cx="1800" cy="31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1160" y="4033440"/>
              <a:ext cx="114480" cy="11412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0"/>
                  </a:moveTo>
                  <a:lnTo>
                    <a:pt x="143" y="287"/>
                  </a:lnTo>
                  <a:lnTo>
                    <a:pt x="0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7200" y="4574880"/>
              <a:ext cx="1440" cy="255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09960" y="4717800"/>
              <a:ext cx="112680" cy="11232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0"/>
                  </a:moveTo>
                  <a:lnTo>
                    <a:pt x="144" y="287"/>
                  </a:lnTo>
                  <a:lnTo>
                    <a:pt x="0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67200" y="5259240"/>
              <a:ext cx="1440" cy="255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09960" y="5400360"/>
              <a:ext cx="112680" cy="114120"/>
            </a:xfrm>
            <a:custGeom>
              <a:avLst/>
              <a:gdLst/>
              <a:ahLst/>
              <a:rect l="l" t="t" r="r" b="b"/>
              <a:pathLst>
                <a:path w="287" h="288">
                  <a:moveTo>
                    <a:pt x="287" y="0"/>
                  </a:moveTo>
                  <a:lnTo>
                    <a:pt x="144" y="288"/>
                  </a:lnTo>
                  <a:lnTo>
                    <a:pt x="0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9680" y="3092040"/>
              <a:ext cx="1800" cy="31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92440" y="3292200"/>
              <a:ext cx="114480" cy="11412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0"/>
                  </a:moveTo>
                  <a:lnTo>
                    <a:pt x="144" y="287"/>
                  </a:lnTo>
                  <a:lnTo>
                    <a:pt x="0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49680" y="3833640"/>
              <a:ext cx="1800" cy="31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92440" y="4033440"/>
              <a:ext cx="114480" cy="11412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0"/>
                  </a:moveTo>
                  <a:lnTo>
                    <a:pt x="144" y="287"/>
                  </a:lnTo>
                  <a:lnTo>
                    <a:pt x="0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49680" y="4574880"/>
              <a:ext cx="1800" cy="9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92440" y="5400360"/>
              <a:ext cx="114480" cy="1141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0"/>
                  </a:moveTo>
                  <a:lnTo>
                    <a:pt x="144" y="288"/>
                  </a:lnTo>
                  <a:lnTo>
                    <a:pt x="0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46640" y="3092040"/>
              <a:ext cx="1800" cy="31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89760" y="3292200"/>
              <a:ext cx="114120" cy="11412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0"/>
                  </a:moveTo>
                  <a:lnTo>
                    <a:pt x="144" y="287"/>
                  </a:lnTo>
                  <a:lnTo>
                    <a:pt x="0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46640" y="3833640"/>
              <a:ext cx="1800" cy="1680840"/>
            </a:xfrm>
            <a:custGeom>
              <a:avLst/>
              <a:gdLst/>
              <a:ahLst/>
              <a:rect l="l" t="t" r="r" b="b"/>
              <a:pathLst>
                <a:path w="0" h="4237">
                  <a:moveTo>
                    <a:pt x="0" y="0"/>
                  </a:moveTo>
                  <a:lnTo>
                    <a:pt x="0" y="3088"/>
                  </a:lnTo>
                  <a:lnTo>
                    <a:pt x="0" y="42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89760" y="5400360"/>
              <a:ext cx="114120" cy="114120"/>
            </a:xfrm>
            <a:custGeom>
              <a:avLst/>
              <a:gdLst/>
              <a:ahLst/>
              <a:rect l="l" t="t" r="r" b="b"/>
              <a:pathLst>
                <a:path w="287" h="288">
                  <a:moveTo>
                    <a:pt x="287" y="0"/>
                  </a:moveTo>
                  <a:lnTo>
                    <a:pt x="144" y="288"/>
                  </a:lnTo>
                  <a:lnTo>
                    <a:pt x="0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58520" y="2112840"/>
              <a:ext cx="1296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</a:rPr>
                <a:t>I.AIRPLA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26200" y="2369880"/>
              <a:ext cx="116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</a:rPr>
                <a:t>GENERA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57160" y="2112840"/>
              <a:ext cx="777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</a:rPr>
                <a:t>I.NEW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1440" y="2369880"/>
              <a:ext cx="103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</a:rPr>
                <a:t>AIRPLA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68800" y="2112840"/>
              <a:ext cx="777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</a:rPr>
                <a:t>I.EN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00760" y="2369880"/>
              <a:ext cx="90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</a:rPr>
                <a:t>TAKE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01240" y="2112840"/>
              <a:ext cx="103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</a:rPr>
                <a:t>I.FINAL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38760" y="2369880"/>
              <a:ext cx="777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</a:rPr>
                <a:t>REPO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4120" y="2768400"/>
              <a:ext cx="777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</a:rPr>
                <a:t>F.EV.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4120" y="5589360"/>
              <a:ext cx="777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</a:rPr>
                <a:t>L.EV.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9240" y="1049040"/>
              <a:ext cx="760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v.s consists of multiple sets - one for each process and ev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2480" y="1320480"/>
              <a:ext cx="5736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fined in the preamble.  This cuts search tim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ple of Cancella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t .AC = F.EXE.RUN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each .ET in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ev.s (I.END.TAKEOF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ith ET.AIRCRAFT.POINTER (.ET) = .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 the first c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f f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ancel the END.TAKEOFF called .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stroy the END.TAKEOFF called .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move .AC from EXE.RUN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le .AC in MAINTENANCE.FAC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if ''f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s and Cons of Events and Process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s for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 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 notices have 5 attributes instead of 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 memory not sa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 notice not sa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 for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alternative to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are events us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 modeling is older than process mode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sier for new simulation programmer to gr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ercise 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rt Problem Using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:\Program Files\Simscript3\models\Event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cific Port Problem using Even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e "EventPort" Directory for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 1 tug and 3 docks, a 365-day simulation results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92 ships being unloa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erage waiting time is 4.01 hou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ximum waiting time of 34.00 h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do these results compare with your process version of the Pacific Port Proble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ider changes to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k is held longer than need be - especially if more tugs are u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g move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stantl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to appropriate location (dock vs. harbor entrance). Assume travel time without a ship is 15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ambl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4280" y="824040"/>
            <a:ext cx="363600" cy="57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23240" y="824040"/>
            <a:ext cx="6307200" cy="56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 CACI Products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 The Port model using events - Day 1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 Source Code: EventPort.S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Normally mode is un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Major events are requesting &amp; releasing the dock and the tu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vent notices incl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HIP.GENERATO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QUEST.DOC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QUEST.TU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LEASE.TU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LEASE.DOCK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INAL.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very REQUEST.TUG has an RQT.SHIP.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efine RQT.SHIP.PTR as a pointe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very RELEASE.TUG has an RLT.SHIP.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efine RLT.SHIP.PTR as a pointe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very RELEASE.DOCK has an RD.SHIP.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efine RD.SHIP.PTR as a pointe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''SHIPS are the entities that travel through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Temporary ent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Every SHIP 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a SHIP.ARRIVAL.TI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a SHIP.STATU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a SHIP.UNLOAD.TIM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belongs to the QUE.DOCK, the EXE.DOC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                    </a:t>
            </a: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the QUE.TUG and the EXE.T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Define SHIP.ARRIVAL.TIME and SHIP.UNLOAD.TI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as real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Define SHIP.STATUS as an intege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amble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9907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95720" y="838080"/>
            <a:ext cx="713016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''Service is provided by a HARBOR that contains docks and tu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Permanent ent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Every HARBOR ha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NUMBER.OF.DOCKS and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NUMBER.OF.TUG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owns a QUE.DOCK, an EXE.DOC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                   </a:t>
            </a: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a QUE.TUG and an EXE.T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cc99"/>
                </a:solidFill>
                <a:latin typeface="Courier New"/>
              </a:rPr>
              <a:t>Define NUMBER.OF.DOCKS and NUMBER.OF.TUGS as integer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 Input Global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efine RUN.LENGTH as a real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 Output Global Variables provide statistics col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efine TOTAL.WAITING.TIME and MAX.WAITING.TIME as real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efine NO.OF.SHIPS.SERVED as an intege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 Synonyms provide clarity to th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efine ..AT.HARBOR to mea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efine ..TO.DOCK to mea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efine ..AT.DOCK to mea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efine ..TO.SEA to mea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efine ..AT.SEA to mean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nd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4280" y="824040"/>
            <a:ext cx="36360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in Routine &amp; Initializa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4280" y="838080"/>
            <a:ext cx="3636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0320" y="838080"/>
            <a:ext cx="5118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all READ.DATA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to set up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chedule a FINAL.REPORT in RUN.LENG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chedule a SHIP.GENERATOR now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to create new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tart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nd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4280" y="2803680"/>
            <a:ext cx="363600" cy="37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2803680"/>
            <a:ext cx="6400800" cy="37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outine READ.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efine .NBR.TUGS and .NBR.DOCKS as integer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Open unit 10 for input, name = "PORT.DA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Use unit 10 for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kip 3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ad .NBR.TU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kip 3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ad .NBR.D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kip 3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ad RUN.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lose unit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Create 1 harbor that contains .NBR.DOCKS &amp; .NBR.TU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Let N.HARBOR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reate each HAR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Let NUMBER.OF.TUGS(1) = .NBR.TU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Let NUMBER.OF.DOCKS(1) = .NBR.D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nd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READ.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enerate Ship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838080"/>
            <a:ext cx="7239240" cy="16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vent SHIP.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aving the event no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f time.v &lt;= RUN.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chedule a REQUEST.DOCK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schedule this SHIP.GENERATOR in uniform.f(4.0, 18.0, 1)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ndif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time.v &lt;= RUN.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nd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SHIP.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4280" y="838080"/>
            <a:ext cx="363600" cy="16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deling with Events instead of Process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ead of putting a sequence of events in a single process, we may model them separat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chanism is the s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 no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 rout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ther than 1 process with 2 events there will be 2 separate event types and routi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not use resources, so we'll write our own code to mimic th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quest the Dock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8380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4280" y="517680"/>
            <a:ext cx="363600" cy="60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22096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16002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520560"/>
            <a:ext cx="6934320" cy="60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vent REQUEST.D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efine .PROBABILITY as a real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efine .SHIP as a pointe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Create a new ship and set up attributes for unloading ti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arrival time and status.  Arrival time is used to cal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the total time in system when the ship leaves the har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reate a SHIP called .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Unloading time differs for each type of 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Let .PROBABILITY = random.f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case .PROB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ase 0.0 to 0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Let SHIP.UNLOAD.TIME(.SHIP) = uniform.f(16.0,20.0,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ase 0.25 to 0.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Let SHIP.UNLOAD.TIME(.SHIP) = uniform.f(21.0, 27.0,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Let SHIP.UNLOAD.TIME(.SHIP) = uniform.f(32.0, 40.0,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ndselect ''.PROB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Store time ship enter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Let SHIP.ARRIVAL.TIME(.SHIP) = time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Set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Let SHIP.STATUS(.SHIP) = ..AT.HAR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Grab dock if available.  Then schedule a request for a Tu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to take SHIP to the d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f N.EXE.DOCK(1) &lt; NUMBER.OF.DOCKS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ile .SHIP in the EXE.DOCK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chedule a REQUEST.TUG giving .SHIP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ile .SHIP in the QUE.DOCK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ndif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N.EXE.DOCK(1) &lt; NUMBER.OF.DOCKS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nd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REQUEST.D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quest the Tug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066680"/>
            <a:ext cx="822960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Event REQUEST.T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     given .RQT.SHIP.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  Define .RQT.SHIP.PTR as a pointe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Tug is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 If N.EXE.TUG(1) &lt; NUMBER.OF.TUGS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   File .RQT.SHIP.PTR in the EXE.TUG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Change the ship status.  If ship has just been creat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indicate that it will be taken to the dock by the t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If the ship was already at the dock, then it has unlo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 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its cargo and is ready to depart to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Select case SHIP.STATUS(.RQT.SHIP.PT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        Case ..AT.HAR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             Let SHIP.STATUS(.RQT.SHIP.PTR) = ..TO.D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        Case ..AT.D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             Let SHIP.STATUS(.RQT.SHIP.PTR) = ..TO.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       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             Print 1 line with time.v and SHIP.STATUS(.RQT.SHIP.PTR) th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*******.*** ERROR in REQUEST.TUG: Invalid ship status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            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      End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 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1 hour is needed to move the ship to or from the d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        Schedule a RELEASE.TUG giving .RQT.SHIP.PTR in 1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9      Else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tug is unavailable so wait in the tug's que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1        File .RQT.SHIP.PTR in the QUE.TUG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2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3      Endif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N.EXE.TUG(1) &lt; NUMBER.OF.TUGS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4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5  End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REQUEST.T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lease the Tug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219320"/>
            <a:ext cx="815328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Event RELEASE.T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   given .RLT.SHIP.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  Define .RLT.SHIP.PTR and .QUEUED.SHIP.PTR as pointer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Release the tug and let tug take the first queued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ship to its destination.  Note that tug position ignored(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   Remove .RLT.SHIP.PTR from the EXE.TUG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 If the QUE.TUG(1) is not emp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   Remove the first .QUEUED.SHIP.PTR from the QUE.TUG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   File .QUEUED.SHIP.PTR in the EXE.TUG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      Select case SHIP.STATUS(.QUEUED.SHIP.PT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   Case ..AT.HAR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              Let SHIP.STATUS(.QUEUED.SHIP.PTR) = ..TO.D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         Case ..AT.D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              Let SHIP.STATUS(.QUEUED.SHIP.PTR) = ..TO.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        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              Print 1 line with time.v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                    SHIP.STATUS(.QUEUED.SHIP.PTR) th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*******.*** ERROR in RELEASE.TUG: Invalid next ship status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             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      Endselect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SHIP.STATUS(.QUEUED.SHIP.PT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 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Send the queued ship on its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        Schedule a RELEASE.TUG giving .QUEUED.SHIP.PTR in 1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9      End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1 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If the ship has just arrived at the dock, start unlo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2 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Schedule the end of the unloading activity - when tug need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3 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If ship heading out from dock, schedule an immediate releas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4      ''the dock.  Note that dock could be release earlier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(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lease the Tug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143000"/>
            <a:ext cx="830556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5      Select case SHIP.STATUS(.RLT.SHIP.PT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6         Case ..TO.D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7              Let SHIP.STATUS(.RLT.SHIP.PTR) = ..AT.D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8              Schedule a REQUEST.TUG giving .RLT.SHIP.P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9                       in SHIP.UNLOAD.TIME(.RLT.SHIP.PTR) hou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0         Case ..TO.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1              Let SHIP.STATUS(.RLT.SHIP.PTR) = ..AT.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2              Schedule a RELEASE.DOCK giving .RLT.SHIP.PTR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3        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4              Print 1 line with time.v and SHIP.STATUS(.RLT.SHIP.PTR) th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*******.*** ERROR in RELEASE.TUG: Invalid current ship status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6             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7      Endselect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SHIP.STATUS(.RLT.SHIP.PT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9  End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RELEASE.T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lease the Dock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066680"/>
            <a:ext cx="7732800" cy="43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Event RELEASE.D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     Given .RD.SHIP.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    Define .RD.SHIP.PTR and .QUEUED.SHIP.PTR as pointe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     Define .WAITING.TIME as a real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Collect waiting time statistics and count number of ships 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     Add 1 to NO.OF.SHIPS.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    Let .WAITING.TIME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       (time.v - SHIP.ARRIVAL.TIME(.RD.SHIP.PTR)) * hours.v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          SHIP.UNLOAD.TIME(.RD.SHIP.PT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   Add .WAITING.TIME to TOTAL.WAITING.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   Let MAX.WAITING.TIME = max.f(MAX.WAITING.TIME,.WAITING.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Release the dock and free up computer memory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6        Remove .RD.SHIP.PTR from the EXE.DOCK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7        Destroy the SHIP called .RD.SHIP.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9   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Check the dock queue for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      If the QUE.DOCK(1) is not emp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         Remove the first .QUEUED.SHIP.PTR from the QUE.DOCK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         File .QUEUED.SHIP.PTR in the EXE.DOCK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         Let SHIP.STATUS(.QUEUED.SHIP.PTR) = ..AT.HAR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         Schedule a REQUEST.TUG giving .QUEUED.SHIP.PTR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        End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9  End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''RELEASE.D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nal Repor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15644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Event FINAL.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 Skip 2 output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  Print 4 lines with RUN.LENGTH th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acific Port Problem (Answer to Student Problem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un length is ****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  Skip 2 output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2     Print 4 lines with time.v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3                        NO.OF.SHIPS.SERV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4                        TOTAL.WAITING.TIME/NO.OF.SHIPS.SERVED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5                        MAX.WAITING.TIME th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fter ***.** days, *** ships have been unloa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average waiting time was **.**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he maximum waiting time was **.**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1     Skip 2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3     Read as / using unit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4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5    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6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7  End ''FINAL.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cheduling Even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hedule an END.TAKEOFF in 2 minutes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v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ate a DEPARTURE now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ate, reactivate, schedule and reschedule are synony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mory for Even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e as 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 notice for each in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 memory for each in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nt notice destroyed on entry, not retu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memory released when the event routine completes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ssing Arguments to Event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ts are routines.  They can receive but not yield argu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guments are passed to routines immediately because control is passed immediate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ts do not get control immediately, so we need a temporary storage for the val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ssing Arguments to Events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ttributes of event not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Pream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very END.TAKEOFF has an ET.AIRCRAFT.PO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nother rout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hedule an END.TAKEOFF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alled .E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in 4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et ET.AIRCRAFT.POINTER(.ET) = .AIRPLA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ssing Arguments to Events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rout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vent END.TAKEO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AC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''Pointer to an airpla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Statements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  ‘’END.TAKEO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ssing Arguments to Events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14400" y="1447920"/>
            <a:ext cx="7391520" cy="4038480"/>
            <a:chOff x="914400" y="1447920"/>
            <a:chExt cx="7391520" cy="4038480"/>
          </a:xfrm>
        </p:grpSpPr>
        <p:sp>
          <p:nvSpPr>
            <p:cNvPr id="58" name=""/>
            <p:cNvSpPr/>
            <p:nvPr/>
          </p:nvSpPr>
          <p:spPr>
            <a:xfrm>
              <a:off x="914400" y="1447920"/>
              <a:ext cx="7391520" cy="403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02280" y="1735200"/>
              <a:ext cx="1539720" cy="426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02280" y="2162160"/>
              <a:ext cx="1539720" cy="427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02280" y="2589480"/>
              <a:ext cx="1539720" cy="426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02280" y="3016440"/>
              <a:ext cx="1539720" cy="428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02280" y="3444840"/>
              <a:ext cx="1539720" cy="427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02280" y="3872160"/>
              <a:ext cx="1539720" cy="426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27640" y="2818080"/>
              <a:ext cx="169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22200" y="2665440"/>
              <a:ext cx="218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ystem 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33240" y="3973680"/>
              <a:ext cx="24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</a:rPr>
                <a:t>ET.AIRCRAFT.POINT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07360" y="4999320"/>
              <a:ext cx="116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</a:rPr>
                <a:t>.AIRPLA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98200" y="5027760"/>
              <a:ext cx="38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</a:rPr>
                <a:t>.A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849680" y="4130640"/>
              <a:ext cx="1798560" cy="797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06760" y="4124520"/>
              <a:ext cx="141480" cy="114120"/>
            </a:xfrm>
            <a:custGeom>
              <a:avLst/>
              <a:gdLst/>
              <a:ahLst/>
              <a:rect l="l" t="t" r="r" b="b"/>
              <a:pathLst>
                <a:path w="353" h="288">
                  <a:moveTo>
                    <a:pt x="0" y="0"/>
                  </a:moveTo>
                  <a:lnTo>
                    <a:pt x="353" y="16"/>
                  </a:lnTo>
                  <a:lnTo>
                    <a:pt x="128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16640" y="4130640"/>
              <a:ext cx="1655640" cy="9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31160" y="4926240"/>
              <a:ext cx="141120" cy="115920"/>
            </a:xfrm>
            <a:custGeom>
              <a:avLst/>
              <a:gdLst/>
              <a:ahLst/>
              <a:rect l="l" t="t" r="r" b="b"/>
              <a:pathLst>
                <a:path w="353" h="291">
                  <a:moveTo>
                    <a:pt x="153" y="0"/>
                  </a:moveTo>
                  <a:lnTo>
                    <a:pt x="353" y="291"/>
                  </a:lnTo>
                  <a:lnTo>
                    <a:pt x="0" y="276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5181840" y="1752840"/>
              <a:ext cx="152280" cy="2133360"/>
              <a:chOff x="5181840" y="1752840"/>
              <a:chExt cx="152280" cy="2133360"/>
            </a:xfrm>
          </p:grpSpPr>
          <p:sp>
            <p:nvSpPr>
              <p:cNvPr id="75" name=""/>
              <p:cNvSpPr/>
              <p:nvPr/>
            </p:nvSpPr>
            <p:spPr>
              <a:xfrm>
                <a:off x="5181840" y="17528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181840" y="3886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334120" y="17528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0T18:10:02Z</dcterms:created>
  <dc:creator>Jeffry Gene Jones</dc:creator>
  <dc:description/>
  <dc:language>en-US</dc:language>
  <cp:lastModifiedBy>jprince</cp:lastModifiedBy>
  <cp:lastPrinted>1999-03-31T17:00:57Z</cp:lastPrinted>
  <dcterms:modified xsi:type="dcterms:W3CDTF">2004-11-01T22:50:38Z</dcterms:modified>
  <cp:revision>50</cp:revision>
  <dc:subject/>
  <dc:title>Day 3 - Events, Statistics, and SIMGRAPHICS</dc:title>
</cp:coreProperties>
</file>