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118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685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685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11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11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11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118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————————— 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CACI Products Company  ————————————————————————————  SimScript II.5  ——————————————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1, Section 1 Problem Solution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:\Program Files\Simscript3\models\READFIL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305920" y="66135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1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'' Program to Read and Print a Commented Data File - CACI Products Compan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'' files: READFILE.SRC, ACFT.D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Normally mode is undefin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End ''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Call INP.220.READ.AIRCRAFT.DAT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Print 2 lines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ess &lt;CR&gt; to end program..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9     Read as / using unit 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End ''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nd ''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utput Dat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Please enter the length of the simulation in minut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8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In 480.0 minutes, 118 phone calls were made and 26 were lost due to busy li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he average call lasted    8.06   minut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3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0948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3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3, Section 5 Problem Solution</a:t>
            </a:r>
            <a:br>
              <a:rPr sz="2400"/>
            </a:b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:\Program Files\Simscript3\models\EventPort2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'' CACI Products Compan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'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'' The Port model using events - Day 1 Solu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'' Source Code: EventPort.SR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Normally mode is undefin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''Major events are requesting &amp; releasing the dock and the tug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Event notic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SHIP.GENERATOR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REQUEST.DOCK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REQUEST.TUG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RELEASE.TUG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RELEASE.DOCK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 FINAL.RE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  Every REQUEST.TUG has an RQT.SHIP.PT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   Define RQT.SHIP.PTR as a point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  Every RELEASE.TUG has an RLT.SHIP.PT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         Define RLT.SHIP.PTR as a point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  Every RELEASE.DOCK has an RD.SHIP.PT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   Define RD.SHIP.PTR as a point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''SHIPS are the entities that travel through the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   Temporary entit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      Every SHIP ha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         a SHIP.ARRIVAL.TI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         a SHIP.STATUS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           a SHIP.UNLOAD.TIME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3           a SHIP.TUG.BEING.US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         belongs to the QUE.DOCK, the EXE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5                      and the QUE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           Define SHIP.ARRIVAL.TIME and SHIP.UNLOAD.TIM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8                  as re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9           Define SHIP.STATUS as an integ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0           Define SHIP.TUG.BEING.USED as a point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2        Every TUG ha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3           a TUG.STAT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4           and belongs to the TUG.S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6           Define TUG.STATUS as an integ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8     ''Service is provided by a HARBOR that contains docks and tug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9     Permanent entit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1          Every HARBOR has 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2                NUMBER.OF.DOCKS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3                owns a QUE.DOCK, an EXE.DOCK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4                 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a TUG.SET, and a QUE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6                Define NUMBER.OF.DOCKS as integ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8     '' Input Glob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0     Define RUN.LENGTH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2     '' Output Global Variables provide statistics collec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3     Define TOTAL.WAITING.TIME and MAX.WAITING.TIME as re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4     Define NO.OF.SHIPS.SERVED as an integ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6     '' Synonyms provide clarity to the mod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7     Define ..AT.HARBOR to mean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8     Define ..TO.DOCK to mean 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9     Define ..AT.DOCK to mean 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0     Define ..TO.SEA to mean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1     Define ..AT.SEA to mean 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72     Define ..IN.USE to mean 6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4  End ''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Call READ.DATA ''to set up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Schedule a FINAL.REPORT in RUN.LENGTH day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Schedule a SHIP.GENERATOR now ''to create new ship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Start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End ''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34476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Event SHIP.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  saving the event no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If time.v &lt;= RUN.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  Schedule a REQUEST.DOCK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  Reschedule this SHIP.GENERATOR in uniform.f(4.0, 18.0, 1)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Endif ''time.v &lt;= RUN.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End ''SHIP.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Routine READ.DAT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          Define .I, .NBR.TUGS and .NBR.DOCKS as integ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          Define .TUG as a point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    Open unit 10 for input, name = "PORT.DAT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    Use unit 10 for inpu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    Skip 3 field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    Read .NBR.TUG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  Skip 3 field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  Read .NBR.DOCK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Skip 3 field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  Read RUN.LENGT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    Close unit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  ''Create 1 harbor that contains .NBR.DOCKS &amp; .NBR.TUG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    Let N.HARBOR =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        Create each HARB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3          For .I = 1 to .NBR.TUG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4         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5              Create a TUG called 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6              Let TUG.STATUS(.TUG) = ..AT.HARB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7              File .TUG in the TUG.SET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8          Loo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        Let NUMBER.OF.DOCKS(1) = .NBR.DOCK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End ''READ.DAT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Event REQUEST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Define .PROBABILITY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Define .SHIP as a point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''Create a new ship and set up attributes for unloading ti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''arrival time and status.  Arrival time is used to calculat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''the total time in system when the ship leaves the harbo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Create a SHIP called .SHI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''Unloading time differs for each type of shi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Let .PROBABILITY = random.f(2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Select case .PROB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  Case 0.0 to 0.2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       Let SHIP.UNLOAD.TIME(.SHIP) = uniform.f(16.0,20.0,3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  Case 0.25 to 0.8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           Let SHIP.UNLOAD.TIME(.SHIP) = uniform.f(21.0, 27.0, 3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    Defaul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            Let SHIP.UNLOAD.TIME(.SHIP) = uniform.f(32.0, 40.0, 3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Endselect ''.PROB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   ''Store time ship enters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Let SHIP.ARRIVAL.TIME(.SHIP) = time.v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''Set stat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Let SHIP.STATUS(.SHIP) = ..AT.HARB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   ''Grab dock if available.  Then schedule a request for a Tug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   ''to take SHIP to the 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   If N.EXE.DOCK(1) &lt; NUMBER.OF.DOCKS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        File .SHIP in the EXE.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      Schedule a REQUEST.TUG giving .SHIP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     E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        File .SHIP in the QUE.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8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9     Endif ''N.EXE.DOCK(1) &lt; NUMBER.OF.DOCKS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1  End ''REQUEST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Event REQUEST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     given .RQT.SHIP.PT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      Define .RQT.SHIP.PTR, .TUG.TO.USE as point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5      Define .TRANSPORT.TIME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7      Call FIND.TUG.AVAIL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8          giving SHIP.STATUS(.RQT.SHIP.PTR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9          yielding .TUG.TO.U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1      ''Tug is avail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2      If .TUG.TO.USE &lt;&gt;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4        Let SHIP.TUG.BEING.USED(.RQT.SHIP.PTR) = .TUG.TO.U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5   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6        If TUG.STATUS(.TUG.TO.USE) = SHIP.STATUS(.RQT.SHIP.PTR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7            Let .TRANSPORT.TIME = 1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8        E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9            Let .TRANSPORT.TIME = 1.2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0        Endi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2        Let TUG.STATUS(.TUG.TO.USE) = ..IN.U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Routine INP.220.READ.AIRCRAFT.DAT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 Define .AUTHORIZED.NUMBER as an integ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 Define .ROUTINE.NA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       .SHORT.NA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       .DAT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        .AIRCRAFT.NAME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       .LO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as text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''  Open the input uni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Open unit 10 for input, name = "ACFT.DAT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Use  unit 10 for inpu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7      Open unit 11 for output, name = "ACFT.OUT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8      Use unit 11 for outpu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''  Read the file name and date; if not correct, print error messag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''  and sto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Read .ROUTINE.NA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   .DAT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 Let  .SHORT.NAME = substr.f(.ROUTINE.NAME, 1, 7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1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''Change the ship status.  If ship has just been created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   ''indicate that it will be taken to the dock by the tug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   ''If the ship was already at the dock, then it has unload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      ''its cargo and is ready to depart to se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      Select case SHIP.STATUS(.RQT.SHIP.PTR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        Case ..AT.HARB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             Let SHIP.STATUS(.RQT.SHIP.PTR) = ..TO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        Case ..AT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               Let SHIP.STATUS(.RQT.SHIP.PTR) = ..TO.SE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3               Schedule a RELEASE.DOCK giving .RQT.SHIP.PTR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        Defaul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               Print 1 line with time.v and SHIP.STATUS(.RQT.SHIP.PTR)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******.*** ERROR in REQUEST.TUG: Invalid ship status ***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               Sto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8        Endsel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0        ''1 hour is needed to move the ship to or from the dock, a quarter o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1        ''an hour is added if the tug is in the wrong plac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3        Schedule a RELEASE.TUG giving .RQT.SHIP.PTR in .TRANSPORT.TIME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5      Else ''tug is unavailable so wait in the tug's que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7        File .RQT.SHIP.PTR in the QUE.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8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9      Endif ''N.EXE.TUG(1) &lt; NUMBER.OF.TUGS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1  End ''REQUEST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Event RELEASE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   given .RLT.SHIP.PT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Define .RLT.SHIP.PTR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5             .TUG.BEING.USED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       and .QUEUED.SHIP.PTR as point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7      Define .TRANSPORT.TIME,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8             .WAITING.TIME as re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0      ''Release the tug and let tug take the first queued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1      ''ship to its destination.  Note that tug position ignored(!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2      Let .TUG.BEING.USED = SHIP.TUG.BEING.USED(.RLT.SHIP.PTR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3      Let SHIP.TUG.BEING.USED(.RLT.SHIP.PTR) = 0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''If the ship has just arrived at the dock, start unloading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''Schedule the end of the unloading activity - when tug needed again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''If ship heading out from dock, schedule an immediate release o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''the dock.  Note that dock could be release earlier(!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Select case SHIP.STATUS(.RLT.SHIP.PTR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 Case ..TO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        Let SHIP.STATUS(.RLT.SHIP.PTR) = ..AT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2              Let TUG.STATUS(.TUG.BEING.USED) = ..AT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        Schedule a REQUEST.TUG giving .RLT.SHIP.PTR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               in SHIP.UNLOAD.TIME(.RLT.SHIP.PTR) hours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    Case ..TO.SE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         Let SHIP.STATUS(.RLT.SHIP.PTR) = ..TO.SE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7              Let TUG.STATUS(.TUG.BEING.USED) = ..AT.HARBOR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8              ''Collect waiting time statistics and count number of ships serv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9              Add 1 to NO.OF.SHIPS.SERV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0              Let .WAITING.TIME =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1                 (time.v - SHIP.ARRIVAL.TIME(.RLT.SHIP.PTR)) * hours.v -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2                    SHIP.UNLOAD.TIME(.RLT.SHIP.PTR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3              Add .WAITING.TIME to TOTAL.WAITING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4              Let MAX.WAITING.TIME = max.f(MAX.WAITING.TIME,.WAITING.TIM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5              Destroy the SHIP called .RLT.SHIP.PT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         Defaul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              Print 1 line with time.v and SHIP.STATUS(.RLT.SHIP.PTR)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******.*** ERROR in RELEASE.TUG: Invalid current ship status ***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9              Sto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0      Endselect ''SHIP.STATUS(.RLT.SHIP.PTR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2      If the QUE.TUG(1) is not emp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4        Remove the first .QUEUED.SHIP.PTR from the QUE.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5        Let SHIP.TUG.BEING.USED(.QUEUED.SHIP.PTR) = .TUG.BEING.US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6   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7        If TUG.STATUS(.TUG.BEING.USED) = SHIP.STATUS(.QUEUED.SHIP.PTR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8           Let .TRANSPORT.TIME = 1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9        E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50           Let .TRANSPORT.TIME = 1.2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51        Endi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3        Let TUG.STATUS(.TUG.BEING.USED) = ..IN.U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4        Select case SHIP.STATUS(.QUEUED.SHIP.PTR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5           Case ..AT.HARB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6                Let SHIP.STATUS(.QUEUED.SHIP.PTR) = ..TO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7           Case ..AT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8                Let SHIP.STATUS(.QUEUED.SHIP.PTR) = ..TO.SE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59                Schedule a RELEASE.DOCK giving .QUEUED.SHIP.PTR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0           Defaul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1                Print 1 line with time.v and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2                      SHIP.STATUS(.QUEUED.SHIP.PTR)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******.*** ERROR in RELEASE.TUG: Invalid next ship status ***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4                Sto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5        Endselect ''SHIP.STATUS(.QUEUED.SHIP.PTR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7        ''Send the queued ship on its wa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68        Schedule a RELEASE.TUG giving .QUEUED.SHIP.PTR in .TRANSPORT.TIME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0      Endi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2  End ''RELEASE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  Event RELEASE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        Given .RD.SHIP.PT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        Define .RD.SHIP.PTR and .QUEUED.SHIP.PTR as point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6        ''Release the dock and free up computer memory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7        Remove .RD.SHIP.PTR from the EXE.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9        ''Check the dock queue for ship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0        If the QUE.DOCK(1) is not emp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2           Remove the first .QUEUED.SHIP.PTR from the QUE.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3           File .QUEUED.SHIP.PTR in the EXE.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4           Let SHIP.STATUS(.QUEUED.SHIP.PTR) = ..AT.HARB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5           Schedule a REQUEST.TUG giving .QUEUED.SHIP.PTR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7        Endi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9  End ''RELEASE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  Routine FIND.TUG.AVAIL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     given .STAT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     yielding .TUG.TO.U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5     Define .FIRST.CHOIC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6            .SECOND.CHOIC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7            .STATUS as integ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9     Define .TEST.TUG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0            .TUG.TO.USE as point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2     If .STATUS = ..AT.HARB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3        Let .FIRST.CHOICE = ..AT.HARB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4        Let .SECOND.CHOICE = ..AT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5     E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6        Let .FIRST.CHOICE = ..AT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7        Let .SECOND.CHOICE = ..AT.HARB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8     Endi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0     For each .TEST.TUG in the TUG.SET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1         with TUG.STATUS(.TEST.TUG) = .FIRST.CHOIC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2     Find the first ca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3     If fou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4        Let .TUG.TO.USE = .TEST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5        Retur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6     Otherwi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urier New"/>
              </a:rPr>
              <a:t>  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7     For each .TEST.TUG in the TUG.SET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8        with TUG.STATUS(.TEST.TUG) = .SECOND.CHOIC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9     Find the first ca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0     If fou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1         Let .TUG.TO.USE = .TEST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2     Endi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4  End ''FIND.TUG.AVAILABILITY</a:t>
            </a:r>
            <a:r>
              <a:rPr b="0" lang="en-US" sz="1400" spc="-1" strike="noStrike">
                <a:solidFill>
                  <a:srgbClr val="cc0000"/>
                </a:solidFill>
                <a:latin typeface="Courier New"/>
              </a:rPr>
              <a:t>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  Event FINAL.RE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     Skip 2 output li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5     Print 4 lines with RUN.LENGTH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Pacific Port Problem (Answer to Student Problem 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Run length is **** day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0     Skip 2 output li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2     Print 4 lines with time.v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3                        NO.OF.SHIPS.SERVED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4                        TOTAL.WAITING.TIME/NO.OF.SHIPS.SERVED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5                        MAX.WAITING.TIME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After ***.** days, *** ships have been unload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The average waiting time was **.** hou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The maximum waiting time was **.** hou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1     Skip 2 li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3     Read as / using unit 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5     Sto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7  End ''FINAL.RE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acific Port Problem (Solution to Student Problem 7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un length is 365 Day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fter 365 days, 792 ships have been unload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waiting time was  4.08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waiting time was 33.00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5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3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    If .SHORT.NAME is not equal to "INP.220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        Print 2 lines with .SHORT.NAME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ile name does not agree with routine na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******    INP.22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        Trac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          Sto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      Endif ''.SHORT.NAME is not equal to "INP.220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9  ''  Print the name and date to the standard output; skip 2 li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1      Print 1 line with .ROUTINE.NA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2                         .DATE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*****************************     **********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5      Skip 2 output li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7  ''  Jump over the comments in the data f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9      While mode is alpha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0     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1          Start new rec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2      Loop ''mode is alpha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4      Start new input rec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1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4, Section 7 Problem Solution</a:t>
            </a:r>
            <a:br>
              <a:rPr sz="2400"/>
            </a:b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:\Program Files\Simscript3\models\Messageh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24880" y="1488960"/>
            <a:ext cx="67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project messageh to see clock with minute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6  ''  As long as there is data in the file, read 3 fields and print th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8      While data is not ended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9     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1          Read .AIRCRAFT.NA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2               .AUTHORIZED.NUMB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3          Read .LOCATION as t *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5          Print 1 line with .AIRCRAFT.NA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6                            .AUTHORIZED.NUMBER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7                            .LOCATION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****   **  *********************************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0      Loop ''data is not end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2  ''  Close the input unit and retur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4      Close unit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75      Close unit 1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7  End ''INP.22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1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1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2, Section 3 Problem Solution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:\Program Files\Simscript3\models\TELPHN2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''   A simple telephone system model - CACI Products Compan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''   files: TELPHN1.SR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 Normally mode is undefin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  Process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    GENER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  Every INCOMING.CALL ha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      a CALL.I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  Define CALL.ID as an integ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6       Define NUMBER.OF.CALLS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7              NUMBER.BUSY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8              LOST.CALL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9       as integ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1       Define SIMULATION.LENGTH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2              TOTAL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3          as re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 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End ''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3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       Print 1 line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Please enter the length of the simulation in minut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6       Read SIMULATION.LENGT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8       Let TOTAL.TIME = 0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9       Let NUMBER.OF.CALLS =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Activate a GENERATOR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Start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5       Print 2 lines with NUMBER.OF.CALLS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6                         LOST.CALLS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7                         TOTAL.TIME / (NUMBER.OF.CALLS - LOST.CALLS)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**** phone calls were made and ** were lost due to busy li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The average call lasted ****.**   minut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 Read as / using unit 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End ''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3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GENER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       Until time.v &gt; (SIMULATION.LENGTH / (24. * 60.0)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5          Add 1 to NUMBER.OF.CALL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    Activate a INCOMING.CALL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7          Let CALL.ID(INCOMING.CALL) = NUMBER.OF.CALL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    Wait uniform.f (2.0, 6.0, 1) minut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Loop ''time.v &gt; SIMULATION.LENGT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End ''GENER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3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INCOMING.CAL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       Define .LENGTH.OF.CALL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  If NUMBER.BUSY &lt; 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    Add 1 to NUMBER.BUS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8          Let .LENGTH.OF.CALL = uniform.f(6.0, 10.0, 2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9          Add .LENGTH.OF.CALL to TOTAL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0          Wait .LENGTH.OF.CALL minut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  Subtract 1 from NUMBER.BUS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E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Add 1 to LOST.CALL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Endif ''NUMBER.BUSY &lt; 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End ''INCOMING.CAL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3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1T02:46:42Z</dcterms:created>
  <dc:creator>Jeffry Gene Jones</dc:creator>
  <dc:description/>
  <dc:language>en-US</dc:language>
  <cp:lastModifiedBy>jprince</cp:lastModifiedBy>
  <cp:lastPrinted>1999-03-31T17:24:05Z</cp:lastPrinted>
  <dcterms:modified xsi:type="dcterms:W3CDTF">2003-07-02T18:08:59Z</dcterms:modified>
  <cp:revision>79</cp:revision>
  <dc:subject/>
  <dc:title>Day 1--The General Purpose Language</dc:title>
</cp:coreProperties>
</file>