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685800" y="837720"/>
            <a:ext cx="77724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685800" y="3584160"/>
            <a:ext cx="77724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6848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685800" y="358416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5"/>
          <p:cNvSpPr>
            <a:spLocks noGrp="1"/>
          </p:cNvSpPr>
          <p:nvPr>
            <p:ph/>
          </p:nvPr>
        </p:nvSpPr>
        <p:spPr>
          <a:xfrm>
            <a:off x="4668480" y="358416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685800" y="83772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3313800" y="83772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941440" y="83772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685800" y="358416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6"/>
          <p:cNvSpPr>
            <a:spLocks noGrp="1"/>
          </p:cNvSpPr>
          <p:nvPr>
            <p:ph/>
          </p:nvPr>
        </p:nvSpPr>
        <p:spPr>
          <a:xfrm>
            <a:off x="3313800" y="358416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7"/>
          <p:cNvSpPr>
            <a:spLocks noGrp="1"/>
          </p:cNvSpPr>
          <p:nvPr>
            <p:ph/>
          </p:nvPr>
        </p:nvSpPr>
        <p:spPr>
          <a:xfrm>
            <a:off x="5941440" y="3584160"/>
            <a:ext cx="25023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685800" y="837720"/>
            <a:ext cx="777240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685800" y="837720"/>
            <a:ext cx="379260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3"/>
          <p:cNvSpPr>
            <a:spLocks noGrp="1"/>
          </p:cNvSpPr>
          <p:nvPr>
            <p:ph/>
          </p:nvPr>
        </p:nvSpPr>
        <p:spPr>
          <a:xfrm>
            <a:off x="4668480" y="837720"/>
            <a:ext cx="379260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68580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668480" y="837720"/>
            <a:ext cx="379260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4"/>
          <p:cNvSpPr>
            <a:spLocks noGrp="1"/>
          </p:cNvSpPr>
          <p:nvPr>
            <p:ph/>
          </p:nvPr>
        </p:nvSpPr>
        <p:spPr>
          <a:xfrm>
            <a:off x="685800" y="358416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685800" y="837720"/>
            <a:ext cx="379260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6848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4668480" y="358416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68580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68480" y="837720"/>
            <a:ext cx="37926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685800" y="3584160"/>
            <a:ext cx="777240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ftr" idx="1"/>
          </p:nvPr>
        </p:nvSpPr>
        <p:spPr>
          <a:xfrm>
            <a:off x="0" y="6629040"/>
            <a:ext cx="9144000" cy="2286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900" spc="-1" strike="noStrike">
                <a:solidFill>
                  <a:srgbClr val="ffffff"/>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6-</a:t>
            </a:r>
            <a:fld id="{24F0499D-8803-43E5-A778-FAEE4B32E80A}" type="slidenum">
              <a:rPr b="1"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y 3</a:t>
            </a:r>
            <a:endParaRPr b="1" lang="en-US" sz="2400" spc="-1" strike="noStrike">
              <a:solidFill>
                <a:srgbClr val="ffff00"/>
              </a:solidFill>
              <a:latin typeface="Arial"/>
            </a:endParaRPr>
          </a:p>
        </p:txBody>
      </p:sp>
      <p:sp>
        <p:nvSpPr>
          <p:cNvPr id="40" name="PlaceHolder 2"/>
          <p:cNvSpPr>
            <a:spLocks noGrp="1"/>
          </p:cNvSpPr>
          <p:nvPr>
            <p:ph/>
          </p:nvPr>
        </p:nvSpPr>
        <p:spPr>
          <a:xfrm>
            <a:off x="1980720" y="1219320"/>
            <a:ext cx="5867640" cy="4419360"/>
          </a:xfrm>
          <a:prstGeom prst="rect">
            <a:avLst/>
          </a:prstGeom>
          <a:noFill/>
          <a:ln w="0">
            <a:noFill/>
          </a:ln>
        </p:spPr>
        <p:txBody>
          <a:bodyPr lIns="90000" rIns="90000" tIns="46800" bIns="46800" anchor="t">
            <a:normAutofit/>
          </a:bodyPr>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5 - Event Approach to Simul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nt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 of the Event Approach</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celing Event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5</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6 - Simulation Output Analysi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dom Numbers and Statistics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rnizing a Bank - with replication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 Graphic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6</a:t>
            </a:r>
            <a:endParaRPr b="0" lang="en-US" sz="1800" spc="-1" strike="noStrike">
              <a:solidFill>
                <a:srgbClr val="ffffff"/>
              </a:solidFill>
              <a:latin typeface="Arial"/>
            </a:endParaRPr>
          </a:p>
        </p:txBody>
      </p:sp>
      <p:sp>
        <p:nvSpPr>
          <p:cNvPr id="41" name=""/>
          <p:cNvSpPr/>
          <p:nvPr/>
        </p:nvSpPr>
        <p:spPr>
          <a:xfrm>
            <a:off x="1371600" y="34513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llecting Statistics (continued)</a:t>
            </a:r>
            <a:endParaRPr b="1" lang="en-US" sz="2400" spc="-1" strike="noStrike">
              <a:solidFill>
                <a:srgbClr val="ffff00"/>
              </a:solidFill>
              <a:latin typeface="Arial"/>
            </a:endParaRPr>
          </a:p>
        </p:txBody>
      </p:sp>
      <p:sp>
        <p:nvSpPr>
          <p:cNvPr id="57" name="PlaceHolder 2"/>
          <p:cNvSpPr>
            <a:spLocks noGrp="1"/>
          </p:cNvSpPr>
          <p:nvPr>
            <p:ph/>
          </p:nvPr>
        </p:nvSpPr>
        <p:spPr>
          <a:xfrm>
            <a:off x="533520" y="837720"/>
            <a:ext cx="815328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 a global variable or attribute you want statistics 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one statement in the preamble to collect them.</a:t>
            </a:r>
            <a:endParaRPr b="0" lang="en-US" sz="18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reamble</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Accumulate</a:t>
            </a:r>
            <a:r>
              <a:rPr b="1" lang="en-US" sz="1600" spc="-1" strike="noStrike">
                <a:solidFill>
                  <a:srgbClr val="ffffff"/>
                </a:solidFill>
                <a:latin typeface="Courier New"/>
              </a:rPr>
              <a:t> SHORTEST.LINE.LENGTH         </a:t>
            </a:r>
            <a:r>
              <a:rPr b="1" lang="en-US" sz="1600" spc="-1" strike="noStrike">
                <a:solidFill>
                  <a:srgbClr val="ffff00"/>
                </a:solidFill>
                <a:latin typeface="Courier New"/>
              </a:rPr>
              <a:t>as the minimum</a:t>
            </a:r>
            <a:r>
              <a:rPr b="1"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ONGEST.LINE.LENGTH          </a:t>
            </a:r>
            <a:r>
              <a:rPr b="1" lang="en-US" sz="1600" spc="-1" strike="noStrike">
                <a:solidFill>
                  <a:srgbClr val="ffff00"/>
                </a:solidFill>
                <a:latin typeface="Courier New"/>
              </a:rPr>
              <a:t>as the maximum</a:t>
            </a:r>
            <a:r>
              <a:rPr b="1"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VERAGE.LINE.LENGTH          </a:t>
            </a:r>
            <a:r>
              <a:rPr b="1" lang="en-US" sz="1600" spc="-1" strike="noStrike">
                <a:solidFill>
                  <a:srgbClr val="ffff00"/>
                </a:solidFill>
                <a:latin typeface="Courier New"/>
              </a:rPr>
              <a:t>as the mean</a:t>
            </a:r>
            <a:r>
              <a:rPr b="1"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PREAD                       </a:t>
            </a:r>
            <a:r>
              <a:rPr b="1" lang="en-US" sz="1600" spc="-1" strike="noStrike">
                <a:solidFill>
                  <a:srgbClr val="ffff00"/>
                </a:solidFill>
                <a:latin typeface="Courier New"/>
              </a:rPr>
              <a:t>as the std.dev</a:t>
            </a:r>
            <a:r>
              <a:rPr b="1" lang="en-US" sz="1600" spc="-1" strike="noStrike">
                <a:solidFill>
                  <a:srgbClr val="ffffff"/>
                </a:solidFill>
                <a:latin typeface="Courier New"/>
              </a:rPr>
              <a:t> an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00"/>
                </a:solidFill>
                <a:latin typeface="Courier New"/>
              </a:rPr>
              <a:t>LINE.HISTOGRAM (0 to 20 by 1)</a:t>
            </a:r>
            <a:r>
              <a:rPr b="1" lang="en-US" sz="1600" spc="-1" strike="noStrike">
                <a:solidFill>
                  <a:srgbClr val="ffffff"/>
                </a:solidFill>
                <a:latin typeface="Courier New"/>
              </a:rPr>
              <a:t>	</a:t>
            </a:r>
            <a:r>
              <a:rPr b="1" lang="en-US" sz="1600" spc="-1" strike="noStrike">
                <a:solidFill>
                  <a:srgbClr val="ffff00"/>
                </a:solidFill>
                <a:latin typeface="Courier New"/>
              </a:rPr>
              <a:t>as the histogra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urier New"/>
              </a:rPr>
              <a:t>of N.Q.RUNWA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another routine</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ist SHORTEST.LINE.LENGTH,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ONGEST.LINE.LENGT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VERAGE.LINE.LENGTH an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PRE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llecting Statistics (continued)</a:t>
            </a:r>
            <a:endParaRPr b="1" lang="en-US" sz="2400" spc="-1" strike="noStrike">
              <a:solidFill>
                <a:srgbClr val="ffff00"/>
              </a:solidFill>
              <a:latin typeface="Arial"/>
            </a:endParaRPr>
          </a:p>
        </p:txBody>
      </p:sp>
      <p:sp>
        <p:nvSpPr>
          <p:cNvPr id="5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SCRIPT II.5 will set up the required counters to collect the required statistic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SCRIPT II.5 will monitor the global variable N.Q.RUNWA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ry time N.Q.RUNWAY is about to change, SIMSCRIPT II.5 will intercept control and pass it to the library routines that update the count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it lets N.Q.RUNWAY chang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you want a value of a statistic, SIMSCRIPT II.5 calls a function that calculates it using the current values of the cou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llecting Statistics (continued)</a:t>
            </a:r>
            <a:endParaRPr b="1" lang="en-US" sz="2400" spc="-1" strike="noStrike">
              <a:solidFill>
                <a:srgbClr val="ffff00"/>
              </a:solidFill>
              <a:latin typeface="Arial"/>
            </a:endParaRPr>
          </a:p>
        </p:txBody>
      </p:sp>
      <p:sp>
        <p:nvSpPr>
          <p:cNvPr id="61" name="PlaceHolder 2"/>
          <p:cNvSpPr>
            <a:spLocks noGrp="1"/>
          </p:cNvSpPr>
          <p:nvPr>
            <p:ph/>
          </p:nvPr>
        </p:nvSpPr>
        <p:spPr>
          <a:xfrm>
            <a:off x="685800" y="837720"/>
            <a:ext cx="7772400" cy="541044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se you want to collect daily and weekly statistics on the same variable.</a:t>
            </a: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reamble</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ccumulat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AILY.AVERAGE.LINE.LENGTH  as </a:t>
            </a:r>
            <a:r>
              <a:rPr b="1" lang="en-US" sz="1600" spc="-1" strike="noStrike">
                <a:solidFill>
                  <a:srgbClr val="ffff00"/>
                </a:solidFill>
                <a:latin typeface="Courier New"/>
              </a:rPr>
              <a:t>the DAILY  mean</a:t>
            </a:r>
            <a:r>
              <a:rPr b="1" lang="en-US" sz="1600" spc="-1" strike="noStrike">
                <a:solidFill>
                  <a:srgbClr val="ffffff"/>
                </a:solidFill>
                <a:latin typeface="Courier New"/>
              </a:rPr>
              <a:t> and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WEEKLY.AVERAGE.LINE.LENGTH as </a:t>
            </a:r>
            <a:r>
              <a:rPr b="1" lang="en-US" sz="1600" spc="-1" strike="noStrike">
                <a:solidFill>
                  <a:srgbClr val="ffff00"/>
                </a:solidFill>
                <a:latin typeface="Courier New"/>
              </a:rPr>
              <a:t>the WEEKLY mean</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of N.Q.RUNWAY</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another routine</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For I = 1 to 7 do ''day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tart simulation</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ist DAILY.AVERAGE.LINE.LENGTH</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00"/>
                </a:solidFill>
                <a:latin typeface="Courier New"/>
              </a:rPr>
              <a:t>Reset DAILY totals of N.Q.RUNWAY</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oop ''I = 1 to 7 d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ist WEEKLY.AVERAGE.LINE.LENG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ing Statistics to Make Decisions</a:t>
            </a:r>
            <a:endParaRPr b="1" lang="en-US" sz="2400" spc="-1" strike="noStrike">
              <a:solidFill>
                <a:srgbClr val="ffff00"/>
              </a:solidFill>
              <a:latin typeface="Arial"/>
            </a:endParaRPr>
          </a:p>
        </p:txBody>
      </p:sp>
      <p:sp>
        <p:nvSpPr>
          <p:cNvPr id="63" name="PlaceHolder 2"/>
          <p:cNvSpPr>
            <a:spLocks noGrp="1"/>
          </p:cNvSpPr>
          <p:nvPr>
            <p:ph/>
          </p:nvPr>
        </p:nvSpPr>
        <p:spPr>
          <a:xfrm>
            <a:off x="685800" y="761760"/>
            <a:ext cx="7772400" cy="5715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need to look at all possibilities before making a decisio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gth of shortest line</a:t>
            </a:r>
            <a:endParaRPr b="0" lang="en-US" sz="20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 each RUNWAY do</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ompute SHORTEST.LINE as the minimum</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of N.Q.RUNWAY(RUNWAY)</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op ''each RUNWAY</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way with shortest line</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 each RUNWAY do</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ompute BEST.RUNWAY as the minimum(RUNWAY)</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of N.Q.RUNWAY(RUNWAY)</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op ''each RUNWAY</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quest 1 RUNWAY (BEST.RUN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cumulate and Tally</a:t>
            </a:r>
            <a:endParaRPr b="1" lang="en-US" sz="2400" spc="-1" strike="noStrike">
              <a:solidFill>
                <a:srgbClr val="ffff00"/>
              </a:solidFill>
              <a:latin typeface="Arial"/>
            </a:endParaRPr>
          </a:p>
        </p:txBody>
      </p:sp>
      <p:sp>
        <p:nvSpPr>
          <p:cNvPr id="65" name="PlaceHolder 2"/>
          <p:cNvSpPr>
            <a:spLocks noGrp="1"/>
          </p:cNvSpPr>
          <p:nvPr>
            <p:ph/>
          </p:nvPr>
        </p:nvSpPr>
        <p:spPr>
          <a:xfrm>
            <a:off x="685800" y="837720"/>
            <a:ext cx="7772400" cy="205740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mulate</a:t>
            </a:r>
            <a:r>
              <a:rPr b="1" lang="en-US" sz="2000" spc="-1" strike="noStrike">
                <a:solidFill>
                  <a:srgbClr val="ffffff"/>
                </a:solidFill>
                <a:latin typeface="Times New Roman"/>
              </a:rPr>
              <a:t> gives the time averaged statistic. Used when the length of time spent at a value is important, as for example, in queue lengths.</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lly</a:t>
            </a:r>
            <a:r>
              <a:rPr b="1" lang="en-US" sz="2000" spc="-1" strike="noStrike">
                <a:solidFill>
                  <a:srgbClr val="ffffff"/>
                </a:solidFill>
                <a:latin typeface="Times New Roman"/>
              </a:rPr>
              <a:t> does not time average, as for example, in time waited in queue.</a:t>
            </a:r>
            <a:endParaRPr b="0" lang="en-US" sz="2000" spc="-1" strike="noStrike">
              <a:solidFill>
                <a:srgbClr val="ffffff"/>
              </a:solidFill>
              <a:latin typeface="Arial"/>
            </a:endParaRPr>
          </a:p>
        </p:txBody>
      </p:sp>
      <p:grpSp>
        <p:nvGrpSpPr>
          <p:cNvPr id="66" name=""/>
          <p:cNvGrpSpPr/>
          <p:nvPr/>
        </p:nvGrpSpPr>
        <p:grpSpPr>
          <a:xfrm>
            <a:off x="1525320" y="2895480"/>
            <a:ext cx="4062960" cy="2288520"/>
            <a:chOff x="1525320" y="2895480"/>
            <a:chExt cx="4062960" cy="2288520"/>
          </a:xfrm>
        </p:grpSpPr>
        <p:sp>
          <p:nvSpPr>
            <p:cNvPr id="67" name=""/>
            <p:cNvSpPr/>
            <p:nvPr/>
          </p:nvSpPr>
          <p:spPr>
            <a:xfrm>
              <a:off x="2249640" y="3047760"/>
              <a:ext cx="0" cy="1604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49640" y="4652640"/>
              <a:ext cx="31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49640" y="3850920"/>
              <a:ext cx="11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49640" y="3047760"/>
              <a:ext cx="11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5320" y="3657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000000"/>
                </a:solidFill>
                <a:latin typeface="Times New Roman"/>
              </a:endParaRPr>
            </a:p>
          </p:txBody>
        </p:sp>
        <p:sp>
          <p:nvSpPr>
            <p:cNvPr id="72" name=""/>
            <p:cNvSpPr/>
            <p:nvPr/>
          </p:nvSpPr>
          <p:spPr>
            <a:xfrm>
              <a:off x="3200400" y="47242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73" name=""/>
            <p:cNvSpPr/>
            <p:nvPr/>
          </p:nvSpPr>
          <p:spPr>
            <a:xfrm>
              <a:off x="1906200" y="4495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74" name=""/>
            <p:cNvSpPr/>
            <p:nvPr/>
          </p:nvSpPr>
          <p:spPr>
            <a:xfrm>
              <a:off x="1906200" y="3657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75" name=""/>
            <p:cNvSpPr/>
            <p:nvPr/>
          </p:nvSpPr>
          <p:spPr>
            <a:xfrm>
              <a:off x="1906200" y="28954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76" name=""/>
            <p:cNvSpPr/>
            <p:nvPr/>
          </p:nvSpPr>
          <p:spPr>
            <a:xfrm>
              <a:off x="2249640" y="3047760"/>
              <a:ext cx="2865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114880" y="3047760"/>
              <a:ext cx="0" cy="76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43480" y="4671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000000"/>
                </a:solidFill>
                <a:latin typeface="Times New Roman"/>
              </a:endParaRPr>
            </a:p>
          </p:txBody>
        </p:sp>
        <p:sp>
          <p:nvSpPr>
            <p:cNvPr id="79" name=""/>
            <p:cNvSpPr/>
            <p:nvPr/>
          </p:nvSpPr>
          <p:spPr>
            <a:xfrm>
              <a:off x="5114880" y="3812760"/>
              <a:ext cx="344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85800" y="52578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mulate</a:t>
            </a:r>
            <a:r>
              <a:rPr b="1" lang="en-US" sz="2000" spc="-1" strike="noStrike">
                <a:solidFill>
                  <a:srgbClr val="ffffff"/>
                </a:solidFill>
                <a:latin typeface="Times New Roman"/>
              </a:rPr>
              <a:t> gives a value of almost 2.0</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lly</a:t>
            </a:r>
            <a:r>
              <a:rPr b="1" lang="en-US" sz="2000" spc="-1" strike="noStrike">
                <a:solidFill>
                  <a:srgbClr val="ffffff"/>
                </a:solidFill>
                <a:latin typeface="Times New Roman"/>
              </a:rPr>
              <a:t> gives a value of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124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6 - Simulation Output Analysis</a:t>
            </a:r>
            <a:endParaRPr b="1" lang="en-US" sz="2400" spc="-1" strike="noStrike">
              <a:solidFill>
                <a:srgbClr val="ffff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 - Modernizing a Bank - with Repli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nk Teller Problem</a:t>
            </a:r>
            <a:endParaRPr b="1" lang="en-US" sz="2400" spc="-1" strike="noStrike">
              <a:solidFill>
                <a:srgbClr val="ffff00"/>
              </a:solidFill>
              <a:latin typeface="Arial"/>
            </a:endParaRPr>
          </a:p>
        </p:txBody>
      </p:sp>
      <p:sp>
        <p:nvSpPr>
          <p:cNvPr id="85" name="PlaceHolder 2"/>
          <p:cNvSpPr>
            <a:spLocks noGrp="1"/>
          </p:cNvSpPr>
          <p:nvPr>
            <p:ph/>
          </p:nvPr>
        </p:nvSpPr>
        <p:spPr>
          <a:xfrm>
            <a:off x="838080" y="837720"/>
            <a:ext cx="777240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l bank with single line or multiple lines for tell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k at range of tellers for each ca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n replications for each case and number of tell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er inter-arrival times and service times are exponentially distribu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nk Teller Problem (continued)</a:t>
            </a:r>
            <a:endParaRPr b="1" lang="en-US" sz="2400" spc="-1" strike="noStrike">
              <a:solidFill>
                <a:srgbClr val="ffff00"/>
              </a:solidFill>
              <a:latin typeface="Arial"/>
            </a:endParaRPr>
          </a:p>
        </p:txBody>
      </p:sp>
      <p:sp>
        <p:nvSpPr>
          <p:cNvPr id="87"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multi-line system, an arriving customer will go to any available teller.  If no teller is available, the customer will choose the shortest line and wait there until served.  When the bank closes, no more customers are admitted, but all are served before the tellers leave.</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 will be printed after each replication as well as overall.</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s desired are:</a:t>
            </a:r>
            <a:endParaRPr b="0" lang="en-US" sz="2000" spc="-1" strike="noStrike">
              <a:solidFill>
                <a:srgbClr val="ffffff"/>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Average utilization of tellers</a:t>
            </a:r>
            <a:endParaRPr b="0" lang="en-US" sz="1800" spc="-1" strike="noStrike">
              <a:solidFill>
                <a:srgbClr val="ffffff"/>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verage and maximum waiting line length</a:t>
            </a:r>
            <a:endParaRPr b="0" lang="en-US" sz="1800" spc="-1" strike="noStrike">
              <a:solidFill>
                <a:srgbClr val="ffffff"/>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 histogram of waiting line length</a:t>
            </a:r>
            <a:endParaRPr b="0" lang="en-US" sz="1800" spc="-1" strike="noStrike">
              <a:solidFill>
                <a:srgbClr val="ffffff"/>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Arial"/>
              </a:rPr>
              <a:t>Average waiting time of customers</a:t>
            </a:r>
            <a:endParaRPr b="0" lang="en-US" sz="1800" spc="-1" strike="noStrike">
              <a:solidFill>
                <a:srgbClr val="ffffff"/>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A histogram of the waiting time in five minute incre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304560"/>
            <a:ext cx="7772400" cy="6172200"/>
          </a:xfrm>
          <a:prstGeom prst="rect">
            <a:avLst/>
          </a:prstGeom>
          <a:noFill/>
          <a:ln w="0">
            <a:noFill/>
          </a:ln>
        </p:spPr>
        <p:txBody>
          <a:bodyPr lIns="90000" rIns="90000" tIns="46800" bIns="46800" anchor="t">
            <a:normAutofit fontScale="99000"/>
          </a:bodyPr>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eambl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 Modernizing a Bank - CACI Products Company</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 files: SIMBANK.SRC</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Normally mode is undefined</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Processes includ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GENERATOR and</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CUSTOMER</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Resources includ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TELLER</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Define CASE as a text variabl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Define MIN.TELLERS,</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MAX.TELLERS and</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NO.OF.REPLICATIONS</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as integer variables</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Define MEAN.INTERARRIVAL.TIM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MEAN.SERVICE.TIM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DAY.LENGTH and</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WAITING.TIM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as real variables</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a:t>
            </a:r>
            <a:r>
              <a:rPr b="1" lang="en-US" sz="1200" spc="-1" strike="noStrike">
                <a:solidFill>
                  <a:srgbClr val="ffff00"/>
                </a:solidFill>
                <a:latin typeface="Courier New"/>
              </a:rPr>
              <a:t>Accumulate DLY.UTILIZATION as the DAILY average of N.X.TELLER</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a:t>
            </a:r>
            <a:r>
              <a:rPr b="1" lang="en-US" sz="1200" spc="-1" strike="noStrike">
                <a:solidFill>
                  <a:srgbClr val="ffff00"/>
                </a:solidFill>
                <a:latin typeface="Courier New"/>
              </a:rPr>
              <a:t>Accumulate DLY.AVG.QUEUE.LENGTH as the DAILY average and</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r>
              <a:rPr b="1" lang="en-US" sz="1200" spc="-1" strike="noStrike">
                <a:solidFill>
                  <a:srgbClr val="ffff00"/>
                </a:solidFill>
                <a:latin typeface="Courier New"/>
              </a:rPr>
              <a:t>DLY.MAX.QUEUE.LENGTH as the DAILY maximum</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a:t>
            </a:r>
            <a:r>
              <a:rPr b="1" lang="en-US" sz="1200" spc="-1" strike="noStrike">
                <a:solidFill>
                  <a:srgbClr val="ffff00"/>
                </a:solidFill>
                <a:latin typeface="Courier New"/>
              </a:rPr>
              <a:t>of N.Q.TELLER</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4     </a:t>
            </a:r>
            <a:r>
              <a:rPr b="1" lang="en-US" sz="1200" spc="-1" strike="noStrike">
                <a:solidFill>
                  <a:srgbClr val="ffff00"/>
                </a:solidFill>
                <a:latin typeface="Courier New"/>
              </a:rPr>
              <a:t>Tally DLY.MEAN.WAITING.TIME as the DAILY mean of WAITING.TIME</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6     </a:t>
            </a:r>
            <a:r>
              <a:rPr b="1" lang="en-US" sz="1200" spc="-1" strike="noStrike">
                <a:solidFill>
                  <a:srgbClr val="ffff00"/>
                </a:solidFill>
                <a:latin typeface="Courier New"/>
              </a:rPr>
              <a:t>Accumulate UTILIZATION as the average of N.X.TELLER</a:t>
            </a:r>
            <a:endParaRPr b="0" lang="en-US" sz="1200" spc="-1" strike="noStrike">
              <a:solidFill>
                <a:srgbClr val="ffffff"/>
              </a:solidFill>
              <a:latin typeface="Arial"/>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6 - Simulation Output Analysis</a:t>
            </a:r>
            <a:endParaRPr b="1" lang="en-US" sz="24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 - Random Numbers and Stat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7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8     </a:t>
            </a:r>
            <a:r>
              <a:rPr b="1" lang="en-US" sz="1200" spc="-1" strike="noStrike">
                <a:solidFill>
                  <a:srgbClr val="ffff00"/>
                </a:solidFill>
                <a:latin typeface="Courier New"/>
              </a:rPr>
              <a:t>Accumulate AVG.QUEUE.LENGTH as the averag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                </a:t>
            </a:r>
            <a:r>
              <a:rPr b="1" lang="en-US" sz="1200" spc="-1" strike="noStrike">
                <a:solidFill>
                  <a:srgbClr val="ffff00"/>
                </a:solidFill>
                <a:latin typeface="Courier New"/>
              </a:rPr>
              <a:t>MAX.QUEUE.LENGTH as the maximum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a:t>
            </a:r>
            <a:r>
              <a:rPr b="1" lang="en-US" sz="1200" spc="-1" strike="noStrike">
                <a:solidFill>
                  <a:srgbClr val="ffff00"/>
                </a:solidFill>
                <a:latin typeface="Courier New"/>
              </a:rPr>
              <a:t>QUEUE.HISTOGRAM (0 to 20 by 1) as the histogram</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1     </a:t>
            </a:r>
            <a:r>
              <a:rPr b="1" lang="en-US" sz="1200" spc="-1" strike="noStrike">
                <a:solidFill>
                  <a:srgbClr val="ffff00"/>
                </a:solidFill>
                <a:latin typeface="Courier New"/>
              </a:rPr>
              <a:t>of N.Q.TELL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2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3     </a:t>
            </a:r>
            <a:r>
              <a:rPr b="1" lang="en-US" sz="1200" spc="-1" strike="noStrike">
                <a:solidFill>
                  <a:srgbClr val="ffff00"/>
                </a:solidFill>
                <a:latin typeface="Courier New"/>
              </a:rPr>
              <a:t>Tally MEAN.WAITING.TIME as the mean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4           </a:t>
            </a:r>
            <a:r>
              <a:rPr b="1" lang="en-US" sz="1200" spc="-1" strike="noStrike">
                <a:solidFill>
                  <a:srgbClr val="ffff00"/>
                </a:solidFill>
                <a:latin typeface="Courier New"/>
              </a:rPr>
              <a:t>WAIT.HISTOGRAM (0 to 100 by 5) as the histogram</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a:t>
            </a:r>
            <a:r>
              <a:rPr b="1" lang="en-US" sz="1200" spc="-1" strike="noStrike">
                <a:solidFill>
                  <a:srgbClr val="ffff00"/>
                </a:solidFill>
                <a:latin typeface="Courier New"/>
              </a:rPr>
              <a:t>of WAITING.TI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6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7  En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Main</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Define .NO.OF.TELLER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REPLICATION,</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SAVESEED1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SAVESEED2</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s integer variable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Define .START.TIME as a real variab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a:t>
            </a:r>
            <a:r>
              <a:rPr b="1" lang="en-US" sz="1200" spc="-1" strike="noStrike">
                <a:solidFill>
                  <a:srgbClr val="ffff00"/>
                </a:solidFill>
                <a:latin typeface="Courier New"/>
              </a:rPr>
              <a:t>Let .SAVESEED1 = seed.v(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r>
              <a:rPr b="1" lang="en-US" sz="1200" spc="-1" strike="noStrike">
                <a:solidFill>
                  <a:srgbClr val="ffff00"/>
                </a:solidFill>
                <a:latin typeface="Courier New"/>
              </a:rPr>
              <a:t>Let .SAVESEED2 = seed.v(2)</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Call READ.DATA</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For .NO.OF.TELLERS = MIN.TELLERS to MAX.TELLERS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Do</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Call INITIALIZE.TELLER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Given</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NO.OF.TELLER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For .REPLICATION = 1 to NO.OF.REPLICATIONS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Do</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Let .START.TIME = time.v</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Activate a GENERATOR now</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Start simulatio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Call DAILY.REPOR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Given</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REPLICATION,</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START.TIME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NO.OF.TELLER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For each TELLER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4           </a:t>
            </a:r>
            <a:r>
              <a:rPr b="1" lang="en-US" sz="1200" spc="-1" strike="noStrike">
                <a:solidFill>
                  <a:srgbClr val="ffff00"/>
                </a:solidFill>
                <a:latin typeface="Courier New"/>
              </a:rPr>
              <a:t>Do</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a:t>
            </a:r>
            <a:r>
              <a:rPr b="1" lang="en-US" sz="1200" spc="-1" strike="noStrike">
                <a:solidFill>
                  <a:srgbClr val="ffff00"/>
                </a:solidFill>
                <a:latin typeface="Courier New"/>
              </a:rPr>
              <a:t>Reset DAILY totals of N.X.TELLER(TELL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6                                    </a:t>
            </a:r>
            <a:r>
              <a:rPr b="1" lang="en-US" sz="1200" spc="-1" strike="noStrike">
                <a:solidFill>
                  <a:srgbClr val="ffff00"/>
                </a:solidFill>
                <a:latin typeface="Courier New"/>
              </a:rPr>
              <a:t>N.Q.TELLER(TELLER)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7                                    </a:t>
            </a:r>
            <a:r>
              <a:rPr b="1" lang="en-US" sz="1200" spc="-1" strike="noStrike">
                <a:solidFill>
                  <a:srgbClr val="ffff00"/>
                </a:solidFill>
                <a:latin typeface="Courier New"/>
              </a:rPr>
              <a:t>WAITING.TI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8           </a:t>
            </a:r>
            <a:r>
              <a:rPr b="1" lang="en-US" sz="1200" spc="-1" strike="noStrike">
                <a:solidFill>
                  <a:srgbClr val="ffff00"/>
                </a:solidFill>
                <a:latin typeface="Courier New"/>
              </a:rPr>
              <a:t>Loop ''each TELL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        Loop ''.REPLICATION = 1 to NO.OF.REPLICATION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1        Call FINAL.REPOR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2        Let time.v = 0.0</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3        Let seed.v(1) = .SAVESEED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4        Let seed.v(2) = .SAVESEED2</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6        For each TELLER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7        </a:t>
            </a:r>
            <a:r>
              <a:rPr b="1" lang="en-US" sz="1200" spc="-1" strike="noStrike">
                <a:solidFill>
                  <a:srgbClr val="ffff00"/>
                </a:solidFill>
                <a:latin typeface="Courier New"/>
              </a:rPr>
              <a:t>Do</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8           </a:t>
            </a:r>
            <a:r>
              <a:rPr b="1" lang="en-US" sz="1200" spc="-1" strike="noStrike">
                <a:solidFill>
                  <a:srgbClr val="ffff00"/>
                </a:solidFill>
                <a:latin typeface="Courier New"/>
              </a:rPr>
              <a:t>Reset totals of N.X.TELLER(TELL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9                           </a:t>
            </a:r>
            <a:r>
              <a:rPr b="1" lang="en-US" sz="1200" spc="-1" strike="noStrike">
                <a:solidFill>
                  <a:srgbClr val="ffff00"/>
                </a:solidFill>
                <a:latin typeface="Courier New"/>
              </a:rPr>
              <a:t>N.Q.TELLER(TELLER) an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a:t>
            </a:r>
            <a:r>
              <a:rPr b="1" lang="en-US" sz="1200" spc="-1" strike="noStrike">
                <a:solidFill>
                  <a:srgbClr val="ffff00"/>
                </a:solidFill>
                <a:latin typeface="Courier New"/>
              </a:rPr>
              <a:t>WAITING.TI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1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2        </a:t>
            </a:r>
            <a:r>
              <a:rPr b="1" lang="en-US" sz="1200" spc="-1" strike="noStrike">
                <a:solidFill>
                  <a:srgbClr val="ffff00"/>
                </a:solidFill>
                <a:latin typeface="Courier New"/>
              </a:rPr>
              <a:t>Loop ''each TELLER do</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3     Loop ''.NO.OF.TELLERS = MIN.TELLERS to MAX.TELLER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4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En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380880"/>
            <a:ext cx="7772400" cy="5943600"/>
          </a:xfrm>
          <a:prstGeom prst="rect">
            <a:avLst/>
          </a:prstGeom>
          <a:noFill/>
          <a:ln w="0">
            <a:noFill/>
          </a:ln>
        </p:spPr>
        <p:txBody>
          <a:bodyPr lIns="90000" rIns="90000" tIns="46800" bIns="4680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Routine READ.DATA</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case to be run (Single-queue (S) or Multi-queue (M):</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Read CAS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Let CASE = upper.f(CAS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inimum number of 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Read MIN.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aximum number of 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Read MAX.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number of replication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Read NO.OF.REPLICATION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between customer arrivals (in minut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Read MEAN.INTERARRIVAL.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for servicing a customer (in minut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Read MEAN.SERVICE.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Print 1 lin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length of time that bank is open for one day (in hou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Read DAY.LENGTH</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Skip 2 output lines </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4     Print 10 lines with MIN.TELLER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MAX.TELLER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6                          NO.OF.REPLICATION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7                          MEAN.INTERARRIVAL.TIME,</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8                          MEAN.SERVICE.TIME and</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                          DAY.LENGTH thu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OMPARISON OF SINGLE AND MULTI-QUEUE BANK OPERATION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number of tellers ranges from * to *.</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re are * replications for each number of teller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ustomers arrive according to an exponential distribution</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f inter-arrival times with a mean of *.** minute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rvice time is exponentially distributed</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with a mean of **.** minutes.</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bank doors are closed after  *.** hours each day</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But all customers inside are served.</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Skip 2 output lines </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1  </a:t>
            </a:r>
            <a:endParaRPr b="0" lang="en-US" sz="1200" spc="-1" strike="noStrike">
              <a:solidFill>
                <a:srgbClr val="ffffff"/>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2  End ''READ.DATA</a:t>
            </a:r>
            <a:endParaRPr b="0" lang="en-US" sz="1200" spc="-1" strike="noStrike">
              <a:solidFill>
                <a:srgbClr val="ffffff"/>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Routine INITIALIZE.TELL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Give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NO.OF.TELL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Define .NO.OF.TELLERS as an integer variabl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If N.TELLER is not zer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Destroy every TELLE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Endif ''N.TELLER is not zer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a:t>
            </a:r>
            <a:r>
              <a:rPr b="1" lang="en-US" sz="1200" spc="-1" strike="noStrike">
                <a:solidFill>
                  <a:srgbClr val="ffff00"/>
                </a:solidFill>
                <a:latin typeface="Courier New"/>
              </a:rPr>
              <a:t>If CASE = "S" ''single queue c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r>
              <a:rPr b="1" lang="en-US" sz="1200" spc="-1" strike="noStrike">
                <a:solidFill>
                  <a:srgbClr val="ffff00"/>
                </a:solidFill>
                <a:latin typeface="Courier New"/>
              </a:rPr>
              <a:t>Create every TELLER(1)</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a:t>
            </a:r>
            <a:r>
              <a:rPr b="1" lang="en-US" sz="1200" spc="-1" strike="noStrike">
                <a:solidFill>
                  <a:srgbClr val="ffff00"/>
                </a:solidFill>
                <a:latin typeface="Courier New"/>
              </a:rPr>
              <a:t>Let U.TELLER(1) = .NO.OF.TELL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a:t>
            </a:r>
            <a:r>
              <a:rPr b="1" lang="en-US" sz="1200" spc="-1" strike="noStrike">
                <a:solidFill>
                  <a:srgbClr val="ffff00"/>
                </a:solidFill>
                <a:latin typeface="Courier New"/>
              </a:rPr>
              <a:t>Else ''multi-queue c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r>
              <a:rPr b="1" lang="en-US" sz="1200" spc="-1" strike="noStrike">
                <a:solidFill>
                  <a:srgbClr val="ffff00"/>
                </a:solidFill>
                <a:latin typeface="Courier New"/>
              </a:rPr>
              <a:t>Create every TELLER(.NO.OF.TELL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a:t>
            </a:r>
            <a:r>
              <a:rPr b="1" lang="en-US" sz="1200" spc="-1" strike="noStrike">
                <a:solidFill>
                  <a:srgbClr val="ffff00"/>
                </a:solidFill>
                <a:latin typeface="Courier New"/>
              </a:rPr>
              <a:t>For each TELLER</a:t>
            </a:r>
            <a:r>
              <a:rPr b="1" lang="en-US" sz="1200" spc="-1" strike="noStrike">
                <a:solidFill>
                  <a:srgbClr val="ffffff"/>
                </a:solidFill>
                <a:latin typeface="Courier New"/>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a:t>
            </a:r>
            <a:r>
              <a:rPr b="1" lang="en-US" sz="1200" spc="-1" strike="noStrike">
                <a:solidFill>
                  <a:srgbClr val="ffff00"/>
                </a:solidFill>
                <a:latin typeface="Courier New"/>
              </a:rPr>
              <a:t>D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a:t>
            </a:r>
            <a:r>
              <a:rPr b="1" lang="en-US" sz="1200" spc="-1" strike="noStrike">
                <a:solidFill>
                  <a:srgbClr val="ffff00"/>
                </a:solidFill>
                <a:latin typeface="Courier New"/>
              </a:rPr>
              <a:t>Let U.TELLER(TELLER) = 1</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a:t>
            </a:r>
            <a:r>
              <a:rPr b="1" lang="en-US" sz="1200" spc="-1" strike="noStrike">
                <a:solidFill>
                  <a:srgbClr val="ffff00"/>
                </a:solidFill>
                <a:latin typeface="Courier New"/>
              </a:rPr>
              <a:t>Loop ''each TELLER d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a:t>
            </a:r>
            <a:r>
              <a:rPr b="1" lang="en-US" sz="1200" spc="-1" strike="noStrike">
                <a:solidFill>
                  <a:srgbClr val="ffff00"/>
                </a:solidFill>
                <a:latin typeface="Courier New"/>
              </a:rPr>
              <a:t>Endif ''CASE = "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End ''INITIALIZE.TELLER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GENERAT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TIME.TO.CLOSE as a real variabl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et .TIME.TO.CLOSE = time.v + (DAY.LENGTH / hours.v)</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Until time.v &gt;= .TIME.TO.CLOSE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D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Activate a CUSTOMER now</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Wait exponential.f(MEAN.INTERARRIVAL.TIME,1) minute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Loop ''time.v &gt;= .TIME.TO.CLOSE d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End ''GENERATO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CUSTOM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ARRIVAL.TIME as a real variabl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Define .MY.CHOICE as an integer variabl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Let .ARRIVAL.TIME = time.v</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If CASE = "S" ''single queue cas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Let .MY.CHOICE = 1</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Else ''multi-queue cas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For each TELL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with N.X.TELLER(TELLER) = 0</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Find the first cas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If found</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et .MY.CHOICE = TELL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Else ''they're all busy</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For each TELLER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Do</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Compute .MY.CHOICE as the minimum(TELL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of N.Q.TELLER(TELL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Loop ''each TELLER</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Endif ''found</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Endif ''CASE = "S"</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Request 1 TELLER(.MY.CHOIC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Let WAITING.TIME = (time.v - .ARRIVAL.TIME) * hours.v * minutes.v</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Work exponential.f(MEAN.SERVICE.TIME, 2) minutes</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Relinquish 1 TELLER(.MY.CHOICE)</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a:t>
            </a:r>
            <a:endParaRPr b="0" lang="en-US" sz="12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End ''CUSTOM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Routine DAILY.REPORT</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Given</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REPLICATION.NUMBE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START.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NO.OF.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Define .REPLICATION.NUMBER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NO.OF.TELLER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as integer variabl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Define .START.TIME as a real variabl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If .REPLICATION.NUMBER = 1</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Start new pag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Print 5 lines with .NO.OF.TELLERS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tellers =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Endif ''.REPLICATON.NUMBER = 1</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For each TELLER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Do</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Print 1 line with (time.v - .START.TIME) * hours.v,</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DLY.UTILIZATION(TELLER)/U.TELLER(TELLE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DLY.AVG.QUEUE.LENGTH(TELLE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DLY.MAX.QUEUE.LENGTH(TELLER)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DLY.MEAN.WAITING.TIME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        **.*      **             ****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oop ''each TELLER</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End ''DAILY.REPOR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304920"/>
            <a:ext cx="7848720" cy="6324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Routine FINAL.REPORT</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I as an integer variable</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Print 2 lines thu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For each TELLER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Do</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Print 1 line with UTILIZATION(TELLER) / U.TELLER(TELLER),</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AVG.QUEUE.LENGTH(TELLER),</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MAX.QUEUE.LENGTH(TELLER) and</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MEAN.WAITING.TIME thu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      **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Loop ''each TELLER</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Skip 3 line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Print 3 lines with WAIT.HISTOGRAM(1) and</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QUEUE.HISTOGRAM(1,1) * 100 /time.v thu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                   0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For .I = 2 to 20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Do</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Print 1 line with 5 * (.I - 1),</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5 * .I,</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WAIT.HISTOGRAM(.I),</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I - 1 and</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QUEUE.HISTOGRAM(1,.I) * 100 / time.v thus</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lt;= T &lt; **           ***                 ***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3      Loop ''I = 1 to 20</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4  </a:t>
            </a:r>
            <a:endParaRPr b="0" lang="en-US" sz="12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enerating Random Numbers</a:t>
            </a:r>
            <a:endParaRPr b="1" lang="en-US" sz="2400" spc="-1" strike="noStrike">
              <a:solidFill>
                <a:srgbClr val="ffff00"/>
              </a:solidFill>
              <a:latin typeface="Arial"/>
            </a:endParaRPr>
          </a:p>
        </p:txBody>
      </p:sp>
      <p:sp>
        <p:nvSpPr>
          <p:cNvPr id="45"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icative congruent techni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stream of numbers between 0.0 and 1.0.</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a number called a see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the arithmetic</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are the random value and the seed for the next draw.</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gt; 2 billion numbers on a 32 bit mach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99" name=""/>
          <p:cNvSpPr/>
          <p:nvPr/>
        </p:nvSpPr>
        <p:spPr>
          <a:xfrm>
            <a:off x="1143000" y="762120"/>
            <a:ext cx="7162920" cy="168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Print 1 line with WAIT.HISTOGRAM(21) and</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6                       QUEUE.HISTOGRAM(1,21) * 100 /time.v thus</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                  20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8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    Read as / using unit 5</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1  End ''FINAL.RE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nter case to be run (Single-queue (S) or Multi-queue (M): 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inimum number of tellers: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aximum number of tellers: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number of replications:    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between customer arrivals (in minutes): 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for servicing a customer (in minutes): 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length of time that bank is open for one day: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OMPARISON OF SINGLE AND MULTI-QUEUE BANK OPER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number of tellers ranges from 1 to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re are 5 replications for each number of teller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ustomers arrive according to an exponential distribution</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f inter-arrival times with a mean of 5.00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rvice time is exponentially distributed</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with a mean of 10.00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bank doors are closed after  8.00 hours each day</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But all customers inside are served.</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umber of teller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82      1.0        25.8      53              25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44      1.0        21.7      44              22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28      1.0        32.3      58              37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56      1.0        22.8      44              2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03      1.0        20.0      44              18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25.0      58              25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13                   0             1.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2                   1             1.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1                   2             1.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4                   3             2.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2                   4             1.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2                   5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6                   6             2.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5                   7             2.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6                   8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4                   9             2.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5                  10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10                  11             2.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7                  12             3.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6                  13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9                  14             1.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2                  15             2.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12                  16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4                  17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5                  18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3                  19             2.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381                  20            60.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umber of teller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26      1.0         3.6      13               1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11       .9         2.3      10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91      1.0        12.3      28               7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9         1.4       8                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31       .8         2.2       9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4.6      28               2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177                   0            28.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56                   1            13.9</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43                   2             9.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36                   3             7.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23                   4             7.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27                   5             5.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22                   6             4.9</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8                   7             3.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3                   8             2.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11                   9             2.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4                  10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6                  11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9                  12             1.9</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6                  13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5                  14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1                  15             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3                  16             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4                  17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2                  18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2                  19              .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41                  20             4.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umber of teller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27       .7          .6       5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34       .7          .4       4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7       .8         1.3       6                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6          .3       5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8       .6          .4       5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6       6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384                   0            72.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36                   1            10.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45                   2             7.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15                   3             6.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7                   4             2.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1                   5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1                   6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0                   7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0                   8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0                   9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0                  10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0                  11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0                  12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0                  13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0                  14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0                  15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0                  16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0                  17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0                  18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0                  19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0                  20             0.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a:t>
            </a:r>
            <a:r>
              <a:rPr b="1" lang="en-US" sz="1200" spc="-1" strike="noStrike">
                <a:solidFill>
                  <a:srgbClr val="ffffff"/>
                </a:solidFill>
                <a:latin typeface="Courier New"/>
              </a:rPr>
              <a:t>Enter case to be run (Single-queue (S) or Multi-queue (M): M</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inimum number of tellers: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aximum number of tellers: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number of replications:    5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between customer arrivals (in minutes): 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mean time for servicing a customer (in minutes): 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ter length of time that bank is open for one day:     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OMPARISON OF SINGLE AND MULTI-QUEUE BANK OPER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number of tellers ranges from 1 to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re are 5 replications for each number of teller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Customers arrive according to an exponential distribution</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f inter-arrival times with a mean of 5.00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rvice time is exponentially distributed</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with a mean of 10.00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he bank doors are closed after  8.00 hours each day</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But all customers inside are 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tellers = 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82      1.0        25.8      53              25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44      1.0        21.7      44              22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28      1.0        32.3      58              37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56      1.0        22.8      44              2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03      1.0        20.0      44              18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25.0      58              25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ultiple Random Number Streams</a:t>
            </a:r>
            <a:endParaRPr b="1" lang="en-US" sz="2400" spc="-1" strike="noStrike">
              <a:solidFill>
                <a:srgbClr val="ffff00"/>
              </a:solidFill>
              <a:latin typeface="Arial"/>
            </a:endParaRPr>
          </a:p>
        </p:txBody>
      </p:sp>
      <p:sp>
        <p:nvSpPr>
          <p:cNvPr id="47" name="PlaceHolder 2"/>
          <p:cNvSpPr>
            <a:spLocks noGrp="1"/>
          </p:cNvSpPr>
          <p:nvPr>
            <p:ph/>
          </p:nvPr>
        </p:nvSpPr>
        <p:spPr>
          <a:xfrm>
            <a:off x="685800" y="914400"/>
            <a:ext cx="7772400" cy="54100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d.v is a 1-dimensional, integer array of size 10.</a:t>
            </a:r>
            <a:endParaRPr b="0"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holds the current value of seeds for 10 different streams.</a:t>
            </a:r>
            <a:endParaRPr b="0" lang="en-US" sz="2000" spc="-1" strike="noStrike">
              <a:solidFill>
                <a:srgbClr val="ffffff"/>
              </a:solidFill>
              <a:latin typeface="Arial"/>
            </a:endParaRPr>
          </a:p>
          <a:p>
            <a:pPr lvl="3" marL="15681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et .PROBABILITY = </a:t>
            </a:r>
            <a:r>
              <a:rPr b="1" lang="en-US" sz="1800" spc="-1" strike="noStrike">
                <a:solidFill>
                  <a:srgbClr val="ffff00"/>
                </a:solidFill>
                <a:latin typeface="Courier New"/>
              </a:rPr>
              <a:t>random.f(3)</a:t>
            </a:r>
            <a:endParaRPr b="0" lang="en-US" sz="1800" spc="-1" strike="noStrike">
              <a:solidFill>
                <a:srgbClr val="ffffff"/>
              </a:solidFill>
              <a:latin typeface="Arial"/>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ist </a:t>
            </a:r>
            <a:r>
              <a:rPr b="1" lang="en-US" sz="1800" spc="-1" strike="noStrike">
                <a:solidFill>
                  <a:srgbClr val="ffff00"/>
                </a:solidFill>
                <a:latin typeface="Courier New"/>
              </a:rPr>
              <a:t>seed.v(3)</a:t>
            </a:r>
            <a:endParaRPr b="0" lang="en-US" sz="1800" spc="-1" strike="noStrike">
              <a:solidFill>
                <a:srgbClr val="ffffff"/>
              </a:solidFill>
              <a:latin typeface="Arial"/>
            </a:endParaRPr>
          </a:p>
          <a:p>
            <a:pPr lvl="3" marL="15681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ds are 100,000 numbers apart</a:t>
            </a:r>
            <a:endParaRPr b="0"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ccess and change seed.v</a:t>
            </a:r>
            <a:endParaRPr b="0" lang="en-US" sz="20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00"/>
                </a:solidFill>
                <a:latin typeface="Courier New"/>
              </a:rPr>
              <a:t>Release seed.v</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00"/>
                </a:solidFill>
                <a:latin typeface="Courier New"/>
              </a:rPr>
              <a:t>Reserve seed.v as 200</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 I = 1 to 200 </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00"/>
                </a:solidFill>
                <a:latin typeface="Courier New"/>
              </a:rPr>
              <a:t>Read seed.v(I)</a:t>
            </a:r>
            <a:endParaRPr b="0" lang="en-US" sz="18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op ''I = 1 to 200 d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13                   0             1.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2                   1             1.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1                   2             1.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4                   3             2.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2                   4             1.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2                   5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6                   6             2.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5                   7             2.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6                   8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4                   9             2.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5                  10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10                  11             2.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7                  12             3.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6                  13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9                  14             1.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2                  15             2.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12                  16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4                  17             1.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5                  18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3                  19             2.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381                  20            60.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umber of tellers =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49       .9         2.1       7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49      1.0         1.7       6               2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25       .9         1.7       5               1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25       .8         1.2       5               1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12       .9         6.3      15               7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12      1.0         6.0      14               7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6       .9         1.1       4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6       .9         1.2       4               1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38       .9         1.3       5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38       .7         1.1       4               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2.6      15               2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2.4      14               2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160                   0            23.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47                   1            23.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48                   2            18.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39                   3            10.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23                   4             6.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24                   5             3.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17                   6             2.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17                   7             4.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20                   8             2.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6                   9              .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11                  10             1.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7                  11              .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1                  12              .9</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2                  13             1.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5                  14              .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4                  15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4                  16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3                  17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7                  18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7                  19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37                  20             0.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1" lang="en-US" sz="2400" spc="-1" strike="noStrike">
              <a:solidFill>
                <a:srgbClr val="ffff00"/>
              </a:solidFill>
              <a:latin typeface="Arial"/>
            </a:endParaRPr>
          </a:p>
        </p:txBody>
      </p:sp>
      <p:sp>
        <p:nvSpPr>
          <p:cNvPr id="113" name="PlaceHolder 2"/>
          <p:cNvSpPr>
            <a:spLocks noGrp="1"/>
          </p:cNvSpPr>
          <p:nvPr>
            <p:ph/>
          </p:nvPr>
        </p:nvSpPr>
        <p:spPr>
          <a:xfrm>
            <a:off x="685800" y="533520"/>
            <a:ext cx="7772400" cy="58672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200" spc="-1" strike="noStrike">
                <a:solidFill>
                  <a:srgbClr val="ffffff"/>
                </a:solidFill>
                <a:latin typeface="Courier New"/>
              </a:rPr>
              <a:t>Number of tellers =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nish     Teller      Queue Length        Average Custome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me   Utilization  Average  Maximum        Waiting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ours)                                       (Minute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8       .8          .4       2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8       .8          .3       2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8       .5          .1       1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6       .9          .5       2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6       .6          .1       1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46       .5          .1       1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7       .9          .6       2                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7       .8          .5       2                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7       .7          .3       2                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8          .2       2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7          .2       2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4          .1       1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4       .7          .3       2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4       .5          .1       2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4       .4          .1       1                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verage over all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4       2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3       2                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1       2                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200" spc="-1" strike="noStrike">
                <a:solidFill>
                  <a:srgbClr val="ffffff"/>
                </a:solidFill>
                <a:latin typeface="Courier New"/>
              </a:rPr>
              <a:t>Waiting Time  Number Who Waited      Queue Length    Percentag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inutes)       This Time                            of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 &lt;  5           370                   0            65.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lt;= T &lt; 10            34                   1            28.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lt;= T &lt; 15            30                   2             6.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t;= T &lt; 20            24                   3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lt;= T &lt; 25            12                   4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t;= T &lt; 30             6                   5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t;= T &lt; 35             7                   6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5 &lt;= T &lt; 40             3                   7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0 &lt;= T &lt; 45             1                   8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5 &lt;= T &lt; 50             1                   9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0 &lt;= T &lt; 55             0                  10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5 &lt;= T &lt; 60             1                  11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0 &lt;= T &lt; 65             0                  12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5 &lt;= T &lt; 70             0                  13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0 &lt;= T &lt; 75             0                  14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5 &lt;= T &lt; 80             0                  15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 &lt;= T &lt; 85             0                  16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5 &lt;= T &lt; 90             0                  17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0 &lt;= T &lt; 95             0                  18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5 &lt;= T &lt;100             0                  19             0.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0 &lt;= T                  0                  20             0.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6 - Simulation Output Analysis</a:t>
            </a:r>
            <a:endParaRPr b="1" lang="en-US" sz="2400" spc="-1" strike="noStrike">
              <a:solidFill>
                <a:srgbClr val="ffff00"/>
              </a:solidFill>
              <a:latin typeface="Arial"/>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3 - Presentation Graph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sentation Graphics</a:t>
            </a:r>
            <a:endParaRPr b="1" lang="en-US" sz="2400" spc="-1" strike="noStrike">
              <a:solidFill>
                <a:srgbClr val="ffff00"/>
              </a:solidFill>
              <a:latin typeface="Arial"/>
            </a:endParaRPr>
          </a:p>
        </p:txBody>
      </p:sp>
      <p:pic>
        <p:nvPicPr>
          <p:cNvPr id="118" name="" descr=""/>
          <p:cNvPicPr/>
          <p:nvPr/>
        </p:nvPicPr>
        <p:blipFill>
          <a:blip r:embed="rId1"/>
          <a:stretch/>
        </p:blipFill>
        <p:spPr>
          <a:xfrm>
            <a:off x="685800" y="83808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playing a Single Variable</a:t>
            </a:r>
            <a:endParaRPr b="1" lang="en-US" sz="2400" spc="-1" strike="noStrike">
              <a:solidFill>
                <a:srgbClr val="ffff00"/>
              </a:solidFill>
              <a:latin typeface="Arial"/>
            </a:endParaRPr>
          </a:p>
        </p:txBody>
      </p:sp>
      <p:sp>
        <p:nvSpPr>
          <p:cNvPr id="120" name="PlaceHolder 2"/>
          <p:cNvSpPr>
            <a:spLocks noGrp="1"/>
          </p:cNvSpPr>
          <p:nvPr>
            <p:ph/>
          </p:nvPr>
        </p:nvSpPr>
        <p:spPr>
          <a:xfrm>
            <a:off x="990720" y="837720"/>
            <a:ext cx="7315200" cy="5257800"/>
          </a:xfrm>
          <a:prstGeom prst="rect">
            <a:avLst/>
          </a:prstGeom>
          <a:noFill/>
          <a:ln w="0">
            <a:noFill/>
          </a:ln>
        </p:spPr>
        <p:txBody>
          <a:bodyPr lIns="90000" rIns="90000" tIns="46800" bIns="46800" anchor="t">
            <a:normAutofit fontScale="98000"/>
          </a:bodyPr>
          <a:p>
            <a:pPr lvl="2" marL="1119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eamble</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sources include PASSENGER.AGENT</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Display variables include N.Q.PASSENGER.AGENT</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Preamble</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Show N.Q.PASSENGER.AGENT with "QUEUE.GRF"</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M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playing a Histogram</a:t>
            </a:r>
            <a:endParaRPr b="1" lang="en-US" sz="2400" spc="-1" strike="noStrike">
              <a:solidFill>
                <a:srgbClr val="ffff00"/>
              </a:solidFill>
              <a:latin typeface="Arial"/>
            </a:endParaRPr>
          </a:p>
        </p:txBody>
      </p:sp>
      <p:sp>
        <p:nvSpPr>
          <p:cNvPr id="12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eambl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fine WAITING.TIME as a real variabl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Define LOW, HIGH and DELTA as integer variable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Tally WAITING.TIME.HISTOGRAM (LOW to HIGH by DELT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as the dynamic histogram of WAITING.TIM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Preambl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Show WAITING.TIME.HISTOGRAM with "WAIT.GRF"</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M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playing a Clock</a:t>
            </a:r>
            <a:endParaRPr b="1" lang="en-US" sz="2400" spc="-1" strike="noStrike">
              <a:solidFill>
                <a:srgbClr val="ffff00"/>
              </a:solidFill>
              <a:latin typeface="Arial"/>
            </a:endParaRPr>
          </a:p>
        </p:txBody>
      </p:sp>
      <p:sp>
        <p:nvSpPr>
          <p:cNvPr id="124" name="PlaceHolder 2"/>
          <p:cNvSpPr>
            <a:spLocks noGrp="1"/>
          </p:cNvSpPr>
          <p:nvPr>
            <p:ph/>
          </p:nvPr>
        </p:nvSpPr>
        <p:spPr>
          <a:xfrm>
            <a:off x="685800" y="762120"/>
            <a:ext cx="7772400" cy="548640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eamble</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Define CLOCKTIME as a double variable</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Display variables include CLOCKTIME</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Preamble</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et timesync.v = 'CLOCK.UPDATE'</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Show CLOCKTIME with "CLOCK.GRF"</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Main</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outine CLOCK.UPDATE</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iven .TIME.ATR yielding .NEW.TIME.ATR</a:t>
            </a:r>
            <a:endParaRPr b="0" lang="en-US" sz="1800" spc="-1" strike="noStrike">
              <a:solidFill>
                <a:srgbClr val="ffffff"/>
              </a:solidFill>
              <a:latin typeface="Arial"/>
            </a:endParaRPr>
          </a:p>
          <a:p>
            <a:pPr marL="3394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efine .TIME.ATR, .NEW.TIME.ATR as double variables</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Let CLOCKTIME      = .TIME.ATR</a:t>
            </a: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Let .NEW.TIME.ATR  = .TIME.ATR</a:t>
            </a:r>
            <a:endParaRPr b="0" lang="en-US" sz="1800" spc="-1" strike="noStrike">
              <a:solidFill>
                <a:srgbClr val="ffffff"/>
              </a:solidFill>
              <a:latin typeface="Arial"/>
            </a:endParaRPr>
          </a:p>
          <a:p>
            <a:pPr marL="3394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CLOCK.UPD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roducibility of Random Numbers</a:t>
            </a:r>
            <a:endParaRPr b="1" lang="en-US" sz="2400" spc="-1" strike="noStrike">
              <a:solidFill>
                <a:srgbClr val="ffff00"/>
              </a:solidFill>
              <a:latin typeface="Arial"/>
            </a:endParaRPr>
          </a:p>
        </p:txBody>
      </p:sp>
      <p:sp>
        <p:nvSpPr>
          <p:cNvPr id="49" name="PlaceHolder 2"/>
          <p:cNvSpPr>
            <a:spLocks noGrp="1"/>
          </p:cNvSpPr>
          <p:nvPr>
            <p:ph/>
          </p:nvPr>
        </p:nvSpPr>
        <p:spPr>
          <a:xfrm>
            <a:off x="1447560" y="1295280"/>
            <a:ext cx="5562360" cy="1828800"/>
          </a:xfrm>
          <a:prstGeom prst="rect">
            <a:avLst/>
          </a:prstGeom>
          <a:noFill/>
          <a:ln w="0">
            <a:noFill/>
          </a:ln>
        </p:spPr>
        <p:txBody>
          <a:bodyPr lIns="90000" rIns="90000" tIns="46800" bIns="46800" anchor="t">
            <a:normAutofit/>
          </a:bodyPr>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et </a:t>
            </a:r>
            <a:r>
              <a:rPr b="1" lang="en-US" sz="1800" spc="-1" strike="noStrike">
                <a:solidFill>
                  <a:srgbClr val="ffff00"/>
                </a:solidFill>
                <a:latin typeface="Courier New"/>
              </a:rPr>
              <a:t>.SAVE.SEED.1 = seed.v(1)</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t;statements&gt;</a:t>
            </a:r>
            <a:endParaRPr b="0" lang="en-US" sz="18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et </a:t>
            </a:r>
            <a:r>
              <a:rPr b="1" lang="en-US" sz="1800" spc="-1" strike="noStrike">
                <a:solidFill>
                  <a:srgbClr val="ffff00"/>
                </a:solidFill>
                <a:latin typeface="Courier New"/>
              </a:rPr>
              <a:t>seed.v(1) = .SAVE.SEED.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124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age is intentionally blank</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rcise 6</a:t>
            </a:r>
            <a:endParaRPr b="1" lang="en-US" sz="2400" spc="-1" strike="noStrike">
              <a:solidFill>
                <a:srgbClr val="ffff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cific Port Problem (revisited)</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rogram Files\Simscript3\models\Problem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cific Port Problem Revisited</a:t>
            </a:r>
            <a:endParaRPr b="1" lang="en-US" sz="2400" spc="-1" strike="noStrike">
              <a:solidFill>
                <a:srgbClr val="ffff00"/>
              </a:solidFill>
              <a:latin typeface="Arial"/>
            </a:endParaRPr>
          </a:p>
        </p:txBody>
      </p:sp>
      <p:sp>
        <p:nvSpPr>
          <p:cNvPr id="129" name="PlaceHolder 2"/>
          <p:cNvSpPr>
            <a:spLocks noGrp="1"/>
          </p:cNvSpPr>
          <p:nvPr>
            <p:ph/>
          </p:nvPr>
        </p:nvSpPr>
        <p:spPr>
          <a:xfrm>
            <a:off x="685440" y="1066320"/>
            <a:ext cx="8077320" cy="4038840"/>
          </a:xfrm>
          <a:prstGeom prst="rect">
            <a:avLst/>
          </a:prstGeom>
          <a:noFill/>
          <a:ln w="0">
            <a:noFill/>
          </a:ln>
        </p:spPr>
        <p:txBody>
          <a:bodyPr lIns="90000" rIns="90000" tIns="46800" bIns="46800" anchor="t">
            <a:normAutofit fontScale="93000"/>
          </a:bodyPr>
          <a:p>
            <a:pPr marL="318960" indent="-31896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that the prototype simulation model is working, the Harbor Master has requested a better estimate of the port performance.  In order to satisfy this requirement, the following statistics have been requested:</a:t>
            </a:r>
            <a:endParaRPr b="0" lang="en-US" sz="2000" spc="-1" strike="noStrike">
              <a:solidFill>
                <a:srgbClr val="ffffff"/>
              </a:solidFill>
              <a:latin typeface="Arial"/>
            </a:endParaRPr>
          </a:p>
          <a:p>
            <a:pPr marL="3189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Average and maximum waiting line for the docks</a:t>
            </a: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verage and maximum waiting line for the tugs</a:t>
            </a: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Utilization of the docks and the tug</a:t>
            </a: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Arial"/>
              </a:rPr>
              <a:t>Average and maximum ship waiting time (excluding unloading time)</a:t>
            </a: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Average and maximum in-port time for all ships</a:t>
            </a:r>
            <a:endParaRPr b="0" lang="en-US" sz="1800" spc="-1" strike="noStrike">
              <a:solidFill>
                <a:srgbClr val="ffffff"/>
              </a:solidFill>
              <a:latin typeface="Arial"/>
            </a:endParaRPr>
          </a:p>
          <a:p>
            <a:pPr marL="318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a:t>
            </a:r>
            <a:r>
              <a:rPr b="0" lang="en-US" sz="1800" spc="-1" strike="noStrike">
                <a:solidFill>
                  <a:srgbClr val="ffffff"/>
                </a:solidFill>
                <a:latin typeface="Arial"/>
              </a:rPr>
              <a:t>	</a:t>
            </a:r>
            <a:r>
              <a:rPr b="0" lang="en-US" sz="1800" spc="-1" strike="noStrike">
                <a:solidFill>
                  <a:srgbClr val="ffffff"/>
                </a:solidFill>
                <a:latin typeface="Arial"/>
              </a:rPr>
              <a:t>The number of ships ser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cific Port Problem Revisited</a:t>
            </a:r>
            <a:endParaRPr b="1" lang="en-US" sz="2400" spc="-1" strike="noStrike">
              <a:solidFill>
                <a:srgbClr val="ffff00"/>
              </a:solidFill>
              <a:latin typeface="Arial"/>
            </a:endParaRPr>
          </a:p>
        </p:txBody>
      </p:sp>
      <p:sp>
        <p:nvSpPr>
          <p:cNvPr id="13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addition, consider a shipper who wishes to ship crude oil from Valdez, Alaska, to San Pedro.  He estimates that shipments will require five ships of a particular type.  The time to unload one of the new ships follows an exponential distribution with a mean of 21 hours.  After unloading, the new ship will travel to Valdez, load more crude oil, and return to San Pedro.  The round trip times follow a normal distribution with a mean of 10 days and a standard deviation of 1 da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the port authorities agree to accommodate the five new ships, they want to determine the effect of the additional port traffic, especially on in-port residency tim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Harbor Master also desires to see a graphical presentation of a histogram for number of ships versus WAITING.TIME in hour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PROBLEMC (Or ANSWER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TES</a:t>
            </a:r>
            <a:endParaRPr b="1" lang="en-US" sz="2400" spc="-1" strike="noStrike">
              <a:solidFill>
                <a:srgbClr val="ffff00"/>
              </a:solidFill>
              <a:latin typeface="Arial"/>
            </a:endParaRPr>
          </a:p>
        </p:txBody>
      </p:sp>
      <p:sp>
        <p:nvSpPr>
          <p:cNvPr id="133" name="PlaceHolder 2"/>
          <p:cNvSpPr>
            <a:spLocks noGrp="1"/>
          </p:cNvSpPr>
          <p:nvPr>
            <p:ph/>
          </p:nvPr>
        </p:nvSpPr>
        <p:spPr>
          <a:xfrm>
            <a:off x="685800" y="1371600"/>
            <a:ext cx="7772400" cy="41911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identify the new ships and the old ships, give the ships attributes such a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EVERY SHIP ha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 SHIP.TYP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fine ..OLD.SHIP to mean 1</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fine ..NEW.SHIP to mean 2</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ctivate a SHIP now</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et SHIP.TYPE(SHIP) = ..OLD.SH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TES: Calling a Synchronous Routine from a Process</a:t>
            </a:r>
            <a:endParaRPr b="1" lang="en-US" sz="2400" spc="-1" strike="noStrike">
              <a:solidFill>
                <a:srgbClr val="ffff00"/>
              </a:solidFill>
              <a:latin typeface="Arial"/>
            </a:endParaRPr>
          </a:p>
        </p:txBody>
      </p:sp>
      <p:sp>
        <p:nvSpPr>
          <p:cNvPr id="135"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Process SHIP</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ARRIVAL.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UNLOAD.TIME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PROBABILITY</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s real variable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     Let .PROBABILITY = random.f(2)</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Select case .PROBABILITY</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0        Case 0.0 to .25</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1           Let .UNLOAD.TIME = uniform.f(16.0, 20.0, 3)</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2        Case .25 to .80</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Let .UNLOAD.TIME = uniform.f(21.0, 27.0, 3)</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Default</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Let .UNLOAD.TIME = uniform.f(32.0, 40.0, 3)</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Endselect ''.PROBABILITY</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0000"/>
                </a:solidFill>
                <a:latin typeface="Courier New"/>
              </a:rPr>
              <a:t>Call HARBOR.OPERATION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giving .UNLOAD.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End ‘’SHIP</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Routine HARBOR.OPERATION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giving .UNLOAD.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Define .ARRIVAL.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UNLOAD.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as real variab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990720"/>
            <a:ext cx="7772400" cy="45720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Let .ARRIVAL.TIME = time.v</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Request 1 DOCK(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Request 1 TUG(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Wait 1.0 hou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     Relinquish 1 TUG(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Work .UNLOAD.TIME hour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Request 1 TUG(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Wait 1.0 hour</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Relinquish 1 TUG(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Relinquish 1 DOCK(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Let WAITING.TIME = (time.v - .ARRIVAL.TIME) * hours.v - .UNLOAD.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969696"/>
                </a:solidFill>
                <a:latin typeface="Courier New"/>
              </a:rPr>
              <a:t>33     Add WAITING.TIME to SUM.SHIP.DELAY</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Courier New"/>
              </a:rPr>
              <a:t>   </a:t>
            </a:r>
            <a:r>
              <a:rPr b="1" lang="en-US" sz="1200" spc="-1" strike="noStrike">
                <a:solidFill>
                  <a:srgbClr val="969696"/>
                </a:solidFill>
                <a:latin typeface="Courier New"/>
              </a:rPr>
              <a:t>34     Let MAX.SHIP.DELAY = max.f(WAITING.TIME, MAX.SHIP.DELAY)</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Courier New"/>
              </a:rPr>
              <a:t>   </a:t>
            </a:r>
            <a:r>
              <a:rPr b="1" lang="en-US" sz="1200" spc="-1" strike="noStrike">
                <a:solidFill>
                  <a:srgbClr val="969696"/>
                </a:solidFill>
                <a:latin typeface="Courier New"/>
              </a:rPr>
              <a:t>35     Add 1 to NO.OF.SHIPS.SERVED</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6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7  End ''HARBOR.OPERATIONS</a:t>
            </a:r>
            <a:endParaRPr b="0" lang="en-US" sz="1200" spc="-1" strike="noStrike">
              <a:solidFill>
                <a:srgbClr val="ffffff"/>
              </a:solidFill>
              <a:latin typeface="Arial"/>
            </a:endParaRPr>
          </a:p>
        </p:txBody>
      </p:sp>
      <p:sp>
        <p:nvSpPr>
          <p:cNvPr id="137" name=""/>
          <p:cNvSpPr/>
          <p:nvPr/>
        </p:nvSpPr>
        <p:spPr>
          <a:xfrm>
            <a:off x="609480" y="4419720"/>
            <a:ext cx="4343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626000"/>
            <a:ext cx="62485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09480" y="4834080"/>
            <a:ext cx="4343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lications</a:t>
            </a:r>
            <a:endParaRPr b="1" lang="en-US" sz="2400" spc="-1" strike="noStrike">
              <a:solidFill>
                <a:srgbClr val="ffff00"/>
              </a:solidFill>
              <a:latin typeface="Arial"/>
            </a:endParaRPr>
          </a:p>
        </p:txBody>
      </p:sp>
      <p:sp>
        <p:nvSpPr>
          <p:cNvPr id="51" name="PlaceHolder 2"/>
          <p:cNvSpPr>
            <a:spLocks noGrp="1"/>
          </p:cNvSpPr>
          <p:nvPr>
            <p:ph/>
          </p:nvPr>
        </p:nvSpPr>
        <p:spPr>
          <a:xfrm>
            <a:off x="2286000" y="837720"/>
            <a:ext cx="510552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stop statem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t event set emp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resources relinquishe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t output variab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457200"/>
            <a:ext cx="7772400" cy="6019920"/>
          </a:xfrm>
          <a:prstGeom prst="rect">
            <a:avLst/>
          </a:prstGeom>
          <a:noFill/>
          <a:ln w="0">
            <a:noFill/>
          </a:ln>
        </p:spPr>
        <p:txBody>
          <a:bodyPr lIns="90000" rIns="90000" tIns="46800" bIns="4680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Main</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Define I as an integer variable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4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Call INITIALIZ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     Print 6 lines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Pacific Port Problem with Replication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Average       Maximum</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hips Unloaded    Delay Time    Delay Time</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4     For I = 1 to 20 do</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        Use unit 6 for output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7        Activate a GENERATOR now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8        Start simulation</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9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0        Print 1 line with NO.OF.SHIPS.SERVE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1                          SUM.SHIP.DELAY / NO.OF.SHIPS.SERVED and</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2                          MAX.SHIP.DELAY thus</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4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5        Let time.v = 0</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6        Let NO.OF.SHIPS.SERVED = 0</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7        Let SUM.SHIP.DELAY     = 0</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        Let MAX.SHIP.DELAY     = 0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9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0     Loop ''I = 1 to 20 do</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1  </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  En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457200"/>
            <a:ext cx="7772400" cy="6019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200" spc="-1" strike="noStrike">
                <a:solidFill>
                  <a:srgbClr val="ffffff"/>
                </a:solidFill>
                <a:latin typeface="Courier New"/>
              </a:rPr>
              <a:t>Pacific Port Problem with Replications</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Average       Maximum</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hips Unloaded    Delay Time    Delay Time</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    ----------    ----------</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5            4.10         26.1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4.53         34.71</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3            5.28         41.3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9            5.25         40.8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3            4.67         51.9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2            4.08         24.5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1            4.32         23.6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7            5.72         33.99</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86            4.31         34.8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0            4.91         39.1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21            4.74         26.23</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5            4.13         24.8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81            3.73         22.56</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9            4.81         31.45</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89            5.08         42.28</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05            4.49         32.27</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7            4.60         35.30</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810            4.94         34.32</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93            4.45         34.14</a:t>
            </a:r>
            <a:endParaRPr b="0" lang="en-US" sz="12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789            4.38         29.5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llecting Statistics</a:t>
            </a:r>
            <a:endParaRPr b="1" lang="en-US" sz="2400" spc="-1" strike="noStrike">
              <a:solidFill>
                <a:srgbClr val="ffff00"/>
              </a:solidFill>
              <a:latin typeface="Arial"/>
            </a:endParaRPr>
          </a:p>
        </p:txBody>
      </p:sp>
      <p:sp>
        <p:nvSpPr>
          <p:cNvPr id="55" name="PlaceHolder 2"/>
          <p:cNvSpPr>
            <a:spLocks noGrp="1"/>
          </p:cNvSpPr>
          <p:nvPr>
            <p:ph/>
          </p:nvPr>
        </p:nvSpPr>
        <p:spPr>
          <a:xfrm>
            <a:off x="2514600" y="837720"/>
            <a:ext cx="502920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occurrenc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 of squar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squar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rian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deviati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u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gr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0T18:10:02Z</dcterms:created>
  <dc:creator>Jeffry Gene Jones</dc:creator>
  <dc:description/>
  <dc:language>en-US</dc:language>
  <cp:lastModifiedBy>jprince</cp:lastModifiedBy>
  <cp:lastPrinted>1999-03-31T17:02:26Z</cp:lastPrinted>
  <dcterms:modified xsi:type="dcterms:W3CDTF">2004-11-09T13:23:21Z</dcterms:modified>
  <cp:revision>53</cp:revision>
  <dc:subject/>
  <dc:title>Day 3 - Events, Statistics, and SIMGRAPHICS</dc:title>
</cp:coreProperties>
</file>