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84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————————— 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CACI Products Company  ——————————————————————————————  SimScript II.5  ——————————————   9-</a:t>
            </a:r>
            <a:fld id="{943817B0-6FCC-49AB-89FC-065CB65A1FDC}" type="slidenum"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720" y="1523520"/>
            <a:ext cx="6324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 9 - Continuous Sim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 10 - 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nstration of SIM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52388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Function FLIGHT.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Giv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    .MSL                   ''Pointer to missile process notic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Define .MSL as a pointer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If MSL.ANGLE(.MSL) &lt; -pi.c /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    Return with 1  ''Pitch over is comple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Endif ''MSL.ANGLE(.MSL) &lt; -pi.c /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    Return with 0  ''Continue simul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End ''FLIGHT.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Process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Define .TERMINAL.MSL.ANGLE as a real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Let .TERMINAL.MSL.ANGLE = - pi.c / 4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    Print 3 lines th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ime        MSL.X    MSL.Y         Ang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        -----    -----         ----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Use unit 6 for outpu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Until MSL.ANGLE(MISSILE) &lt;= .TERMINAL.MSL.ANGLE 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     Print 1 line with time.v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                      MSL.X(MISSILE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                          MSL.Y(MISSILE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                       MSL.ANGLE(MISSILE) * radian.c th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**         ****     ****           **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        Wait 1 seco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      Loop ''MSL.ANGLE(MISSILE) &gt; = .TERMINAL.MSL.ANGLE 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3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4      Read as / using unit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6      Stop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8  End ''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Values of Runge-Kutta parameters: .1, .1, .1, .1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ime        MSL.X    MSL.Y         Ang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        -----    -----         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0            0        0            0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        315      315           4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       633      633           4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    952      952           4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   1270     1270           4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   1588     1588           4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   1938     1909           39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   2295     2182           34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   2676     2422           29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   3077     2626           24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   3495     2793           19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   3925     2922           14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   4366     3012            9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   4813     3062            3.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    5263     3072           -1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   5712     3041           -6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       6156     2970          -11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    6592     2859          -16.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       7016     2709          -22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       7425     2522          -27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       7816     2299          -32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       8185     2042          -37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         8530     1753          -42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Values of Runge-Kutta parameters: .1, .01, .0001, .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ime        MSL.X    MSL.Y         Ang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        -----    -----         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0            0        0            0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        353      353           4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       707      707           4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   1060     1060           4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   1414     1414           4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   1767     1767           4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   2138     2103           39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   2540     2400           33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   2969     2656           27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   3422     2867           22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   3894     3033           16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   4379     3150           10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   4875     3218            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   5374     3236            -.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    5873     3205           -6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   6366     3123          -12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       6849     2993          -17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    7316     2816          -23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       7763     2592          -29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       8185     2326          -35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       8579     2018          -40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ercise 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le F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:\Program Files\Simscript3\models\MISS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issile Flight Proble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5800" y="1600200"/>
            <a:ext cx="7848720" cy="4114800"/>
            <a:chOff x="685800" y="1600200"/>
            <a:chExt cx="7848720" cy="4114800"/>
          </a:xfrm>
        </p:grpSpPr>
        <p:sp>
          <p:nvSpPr>
            <p:cNvPr id="46" name=""/>
            <p:cNvSpPr/>
            <p:nvPr/>
          </p:nvSpPr>
          <p:spPr>
            <a:xfrm>
              <a:off x="685800" y="1600200"/>
              <a:ext cx="7848720" cy="4114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78040" y="3100320"/>
              <a:ext cx="1481040" cy="704880"/>
            </a:xfrm>
            <a:custGeom>
              <a:avLst/>
              <a:gdLst/>
              <a:ahLst/>
              <a:rect l="l" t="t" r="r" b="b"/>
              <a:pathLst>
                <a:path w="3733" h="1774">
                  <a:moveTo>
                    <a:pt x="1461" y="1774"/>
                  </a:moveTo>
                  <a:lnTo>
                    <a:pt x="3733" y="1153"/>
                  </a:lnTo>
                  <a:lnTo>
                    <a:pt x="858" y="0"/>
                  </a:lnTo>
                  <a:lnTo>
                    <a:pt x="0" y="306"/>
                  </a:lnTo>
                  <a:lnTo>
                    <a:pt x="1452" y="1741"/>
                  </a:lnTo>
                  <a:lnTo>
                    <a:pt x="1461" y="17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79720" y="2717640"/>
              <a:ext cx="4967280" cy="1632240"/>
            </a:xfrm>
            <a:custGeom>
              <a:avLst/>
              <a:gdLst/>
              <a:ahLst/>
              <a:rect l="l" t="t" r="r" b="b"/>
              <a:pathLst>
                <a:path w="12516" h="4113">
                  <a:moveTo>
                    <a:pt x="0" y="3061"/>
                  </a:moveTo>
                  <a:lnTo>
                    <a:pt x="671" y="2750"/>
                  </a:lnTo>
                  <a:lnTo>
                    <a:pt x="10254" y="72"/>
                  </a:lnTo>
                  <a:lnTo>
                    <a:pt x="12516" y="0"/>
                  </a:lnTo>
                  <a:lnTo>
                    <a:pt x="10780" y="1052"/>
                  </a:lnTo>
                  <a:lnTo>
                    <a:pt x="431" y="4113"/>
                  </a:lnTo>
                  <a:lnTo>
                    <a:pt x="0" y="306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28600" y="3433680"/>
              <a:ext cx="7074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95680" y="1787400"/>
              <a:ext cx="1800" cy="345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491000" y="2484000"/>
              <a:ext cx="3376800" cy="9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46840" y="5378400"/>
              <a:ext cx="150480" cy="74520"/>
            </a:xfrm>
            <a:custGeom>
              <a:avLst/>
              <a:gdLst/>
              <a:ahLst/>
              <a:rect l="l" t="t" r="r" b="b"/>
              <a:pathLst>
                <a:path w="384" h="191">
                  <a:moveTo>
                    <a:pt x="384" y="96"/>
                  </a:moveTo>
                  <a:lnTo>
                    <a:pt x="0" y="191"/>
                  </a:lnTo>
                  <a:lnTo>
                    <a:pt x="0" y="96"/>
                  </a:lnTo>
                  <a:lnTo>
                    <a:pt x="0" y="0"/>
                  </a:lnTo>
                  <a:lnTo>
                    <a:pt x="384" y="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79800" y="5413320"/>
              <a:ext cx="1065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13040" y="53150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57240" y="2903400"/>
              <a:ext cx="76320" cy="152640"/>
            </a:xfrm>
            <a:custGeom>
              <a:avLst/>
              <a:gdLst/>
              <a:ahLst/>
              <a:rect l="l" t="t" r="r" b="b"/>
              <a:pathLst>
                <a:path w="192" h="383">
                  <a:moveTo>
                    <a:pt x="95" y="0"/>
                  </a:moveTo>
                  <a:lnTo>
                    <a:pt x="192" y="383"/>
                  </a:lnTo>
                  <a:lnTo>
                    <a:pt x="95" y="383"/>
                  </a:lnTo>
                  <a:lnTo>
                    <a:pt x="0" y="38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993600" y="3052440"/>
              <a:ext cx="1800" cy="78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30240" y="394020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10120" y="28764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ng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86160" y="3876840"/>
              <a:ext cx="774720" cy="1036440"/>
            </a:xfrm>
            <a:custGeom>
              <a:avLst/>
              <a:gdLst/>
              <a:ahLst/>
              <a:rect l="l" t="t" r="r" b="b"/>
              <a:pathLst>
                <a:path w="1951" h="2611">
                  <a:moveTo>
                    <a:pt x="0" y="612"/>
                  </a:moveTo>
                  <a:lnTo>
                    <a:pt x="1951" y="0"/>
                  </a:lnTo>
                  <a:lnTo>
                    <a:pt x="1127" y="2425"/>
                  </a:lnTo>
                  <a:lnTo>
                    <a:pt x="188" y="2611"/>
                  </a:lnTo>
                  <a:lnTo>
                    <a:pt x="0" y="602"/>
                  </a:lnTo>
                  <a:lnTo>
                    <a:pt x="0" y="6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67480" y="281628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35720" y="2662200"/>
              <a:ext cx="166680" cy="747720"/>
            </a:xfrm>
            <a:custGeom>
              <a:avLst/>
              <a:gdLst/>
              <a:ahLst/>
              <a:rect l="l" t="t" r="r" b="b"/>
              <a:pathLst>
                <a:path w="419" h="1884">
                  <a:moveTo>
                    <a:pt x="0" y="0"/>
                  </a:moveTo>
                  <a:lnTo>
                    <a:pt x="124" y="170"/>
                  </a:lnTo>
                  <a:lnTo>
                    <a:pt x="224" y="339"/>
                  </a:lnTo>
                  <a:lnTo>
                    <a:pt x="300" y="509"/>
                  </a:lnTo>
                  <a:lnTo>
                    <a:pt x="355" y="675"/>
                  </a:lnTo>
                  <a:lnTo>
                    <a:pt x="391" y="836"/>
                  </a:lnTo>
                  <a:lnTo>
                    <a:pt x="412" y="992"/>
                  </a:lnTo>
                  <a:lnTo>
                    <a:pt x="419" y="1141"/>
                  </a:lnTo>
                  <a:lnTo>
                    <a:pt x="415" y="1280"/>
                  </a:lnTo>
                  <a:lnTo>
                    <a:pt x="401" y="1409"/>
                  </a:lnTo>
                  <a:lnTo>
                    <a:pt x="382" y="1525"/>
                  </a:lnTo>
                  <a:lnTo>
                    <a:pt x="359" y="1629"/>
                  </a:lnTo>
                  <a:lnTo>
                    <a:pt x="335" y="1716"/>
                  </a:lnTo>
                  <a:lnTo>
                    <a:pt x="310" y="1787"/>
                  </a:lnTo>
                  <a:lnTo>
                    <a:pt x="291" y="1840"/>
                  </a:lnTo>
                  <a:lnTo>
                    <a:pt x="278" y="1872"/>
                  </a:lnTo>
                  <a:lnTo>
                    <a:pt x="273" y="18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23120" y="2646360"/>
              <a:ext cx="114480" cy="122400"/>
            </a:xfrm>
            <a:custGeom>
              <a:avLst/>
              <a:gdLst/>
              <a:ahLst/>
              <a:rect l="l" t="t" r="r" b="b"/>
              <a:pathLst>
                <a:path w="289" h="309">
                  <a:moveTo>
                    <a:pt x="289" y="129"/>
                  </a:moveTo>
                  <a:lnTo>
                    <a:pt x="0" y="0"/>
                  </a:lnTo>
                  <a:lnTo>
                    <a:pt x="70" y="309"/>
                  </a:lnTo>
                  <a:lnTo>
                    <a:pt x="89" y="110"/>
                  </a:lnTo>
                  <a:lnTo>
                    <a:pt x="289" y="12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32560" y="3301920"/>
              <a:ext cx="101880" cy="125640"/>
            </a:xfrm>
            <a:custGeom>
              <a:avLst/>
              <a:gdLst/>
              <a:ahLst/>
              <a:rect l="l" t="t" r="r" b="b"/>
              <a:pathLst>
                <a:path w="255" h="316">
                  <a:moveTo>
                    <a:pt x="255" y="123"/>
                  </a:moveTo>
                  <a:lnTo>
                    <a:pt x="6" y="316"/>
                  </a:lnTo>
                  <a:lnTo>
                    <a:pt x="0" y="0"/>
                  </a:lnTo>
                  <a:lnTo>
                    <a:pt x="66" y="189"/>
                  </a:lnTo>
                  <a:lnTo>
                    <a:pt x="255" y="1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inuous Simula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n an equation for the rate of change of a variable,              calculate the value of the variable continuous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(angl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.1   (radians/se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speed * cos(ang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speed * sin(ang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inuous Simulation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eam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cesses incl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MISSILE h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n X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SPE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n AN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X,Y,ANGLE as continuous real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ine QUIT as an integer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 ''Pream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cess MISS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Work continuously evaluating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'EQUATIONS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esting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'QUIT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''MISS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inuous Simulation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utine EQU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M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.ANGLE(.MSL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= -.1 ''radians/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.X(.MSL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= SPEED(.MSL) * cos.f(ANGLE(.MSL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.Y(.MSL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= SPEED(.MSL) * sin.f(ANGLE(.MSL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''EQU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unction Q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f time.v &gt; 5   ''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eturn with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if ''time.v &gt;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eturn with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''Q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Pream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''  Sample continuous simulation pro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''  CACI Products Company, 703-875-29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Normally mode is undefi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Processes inclu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    RE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Every MISSILE h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   an MSL.X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    a MSL.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     a MSL.SPEE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   an MSL.ANGLE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        a MSL.PITCH.RA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        Define MSL.PITCH.RATE as a real variab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    Define MSL.X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           MSL.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             MSL.SPEED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3             MSL.ANG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4      as continuous real variab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6      Define PITCH.OVER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7             FLIGHT.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8      as integer func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9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0      Define seconds to mean un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1      Define second  to mean un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3  End ''Pream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Open unit 10 for input, name = "MISSILE.DAT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Use  unit 10 for inpu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                       ''Defaul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Read max.step.v,       ''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     min.step.v,       ''.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     abs.err.v and     ''.0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     rel.err.v         ''.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Close unit 1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 Activate a MISSILE n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Activate a REPORT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 Start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End ''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Process MISS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Let MSL.SPEED(MISSILE) = 500  ''feet per seco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Let MSL.ANGLE(MISSILE) = pi.c / 4  ''ra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Work continuously evaluating 'FLIGHT' testing 'PITCH.OVER'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Let MSL.PITCH.RATE(MISSILE) = - 0.1  ''radians per seco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Work continuously evaluating 'FLIGHT' testing 'FLIGHT.TIME'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Susp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End ''MISS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Routine F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Giv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    .MSL                   ''Pointer to missile process notic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Define .MSL as a pointer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Let D.MSL.ANGLE(.MSL) = MSL.PITCH.RATE(.MS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Let D.MSL.X(.MSL)     = MSL.SPEED(.MSL) * cos.f(MSL.ANGLE(.MSL)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Let D.MSL.Y(.MSL)     = MSL.SPEED(.MSL) * sin.f(MSL.ANGLE(.MSL)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End ''F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Function PITCH.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   Giv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    .MSL                   ''Pointer to missile process notic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Define .MSL as a pointer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Let .MSL = .MS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If time.v &gt; 5  ''sec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    Return with 1  ''End integ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Endif ''time.v &gt; 5  sec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    Return with 0  ''Continue integ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End ''PITCH.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0T16:34:00Z</dcterms:created>
  <dc:creator>Jeffry Gene Jones</dc:creator>
  <dc:description/>
  <dc:language>en-US</dc:language>
  <cp:lastModifiedBy>jprince</cp:lastModifiedBy>
  <cp:lastPrinted>1999-03-31T17:22:12Z</cp:lastPrinted>
  <dcterms:modified xsi:type="dcterms:W3CDTF">2004-11-05T21:09:31Z</dcterms:modified>
  <cp:revision>41</cp:revision>
  <dc:subject/>
  <dc:title>Day 5 - Continuous Simulation and Animation</dc:title>
</cp:coreProperties>
</file>