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62052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205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6205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62052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62052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62052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6205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6205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62052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—————————  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CACI Products Company  ————————————————————————————  SimScript II.5  ——————————————   7-</a:t>
            </a:r>
            <a:fld id="{B151CC56-8E2D-40CE-91FC-2EA6BB10EA45}" type="slidenum"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y 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80720" y="1295280"/>
            <a:ext cx="5867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ion 7 - Simulation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Interface 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-Defined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rupting and Suspending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rcise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ion 8 - Process Acti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ly Activated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rcise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371600" y="1447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ving Memory - Field Packing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alpha variable is one byte and will never occupy a full computer word.  Integers are frequently less than a full word.  You can save memory by packing two or more variables in one word. (All of the following code is in the Pream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ry HUMAN h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HMN.NAM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HMN.AGE and ''0 to 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HMN.SEX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''M or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ry HUMAN has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HMN.NAM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(HMN.AGE (1/2)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HMN.SEX (3/4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ving Memory - Field Packing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ry HUMAN h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HMN.NAM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HMN.AGE (1/2) in word 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HMN.SS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HMN.SEX (3/4) in wor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s only for attributes of temporary ent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ving Memory - Bit Packing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integer values take less than a full by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ry NETWORK h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NWK.SEMAPHORE.1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''0 t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NWK.SEMAPHORE.2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NWK.SEMAPHORE.3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NWK.SEMAPHORE.4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NWK.NUMB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''0 to 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ry NETWORK has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(NWK.SEMAPHORE.1 (1-1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NWK.SEMAPHORE.2 (2-2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NWK.SEMAPHORE.3 (3-3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NWK.SEMAPHORE.4 (4-4)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NWK.NUMBER (9-32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ving Memory - Intrapacking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pack attributes of permanent entities in a manner similar to that for field pac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ry AIRPORT h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n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PT.STATUS (*/4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''O OR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ving Memory - Eliminating Attributes and Routi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ry set defin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s 3 attributes to the ow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s 3 attributes to each m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ies 7 routines for filing and removing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first (F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last (F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before (F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after (F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ove first (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ove last (R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ove specific (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ving Memory - Eliminating Attributes and Routine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you have a set where you file members, never remove them and always search the set from start to finish -- a read only FIFO s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't need the predecessor and membership attributes nor the remove routines.  Further, you only need the file last rout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ry SHIP belongs to a FL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FLEET as a FIFO 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without P and M attribute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without FF, FB, FA and R rout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ving Memory - Equivalencing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a ship can be in a dock waiting line or a tug waiting line but never at the same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ry SHIP h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 P.DOCK.WAITING.LINE in word 1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 P.TUG.WAITING.LINE  in word 1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 S.DOCK.WAITING.LINE in word 2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 S.TUG.WAITING.LINE  in word 2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 M.DOCK.WAITING.LINE in word 3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 M.TUG.WAITING.LINE  in word 3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belongs to a DOCK.WAITING.LINE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belongs to a TUG.WAITING.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makes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.DOCK.WAITING.LIN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.TUG.WAITING.LIN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ynonyms or equival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7 - Simulation Contro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3 - Moni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nitoring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something is about to happen or has just happened, SIMSCRIPT II.5 can intercept control and pass it to a subroutine that you write.  When done, control returns to where it came fr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umulate or t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a communications center keeps a number of circuits in reserve.  When the number of waiting messages exceeds a certain level, it brings another circuit 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nitoring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eam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cesses include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After activating MESSAGE call CIRCUIT.CHEC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  ''Pream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utine CIRCUIT.CHEC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MSG,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''Pointer to current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TIME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''time.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f N.Q.CIRCUIT(1) &gt;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dd 3 to U.CIRCUIT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if ''N.Q.CIRCUIT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 ''CIRCUIT.CHEC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7 - Simulation Contro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 - User Interface 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nitoring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use before or after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 or destroy ent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ate or cancel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or remove from 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 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fore create or after destr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SCRIPT II.5 passes arguments to the routine including the address of the process notice.  (See p. 80 in Reference Manual for details – Page 98 of the acrobat read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nitoring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monitor assignment of 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pass control before getting a value from a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ream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efine INVENTORY as a real variable monitored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 another rout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et .CURRENT.INVENTORY =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NVEN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Right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routine INVEN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Move to .LOCAL.VARI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TATEMENT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Return with .EXPR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  ''Right routine INVEN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nitoring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pass control before receiving a new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eam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FLOW.RATE as a real variable monitored on the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  ''Pream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 another rout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LOW.R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= 3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ef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routine FLOW.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Enter with .LOCAL.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&lt;STATEMENTS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 from .EX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  ''Left routine FLOW.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7 - Simulation Contro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4 - User-Defined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rbitrary Probability Distribution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2057400"/>
            <a:ext cx="5790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ssage Priority             Probability of Occur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.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.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.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.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.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rbitrary Probability Distribution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 step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ream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The system has a MESSAGE.PRIORITY random step vari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efine MESSAGE.PRIORITY as an integer stream 9 vari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side the Pream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unit 10 for input, name = "message.dat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Use unit 10 for 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Read MESSAGE.PRIO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et .PRIORITY =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MESSAGE.PRIO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05   5   .20   4   .40   3   .30   2   .05   1  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533520" y="1066680"/>
            <a:ext cx="8140680" cy="5105520"/>
            <a:chOff x="533520" y="1066680"/>
            <a:chExt cx="8140680" cy="5105520"/>
          </a:xfrm>
        </p:grpSpPr>
        <p:sp>
          <p:nvSpPr>
            <p:cNvPr id="89" name=""/>
            <p:cNvSpPr/>
            <p:nvPr/>
          </p:nvSpPr>
          <p:spPr>
            <a:xfrm>
              <a:off x="533520" y="1066680"/>
              <a:ext cx="8076960" cy="510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72360" y="1299960"/>
              <a:ext cx="1054080" cy="198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62480" y="1299960"/>
              <a:ext cx="1055520" cy="198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62480" y="1498320"/>
              <a:ext cx="1055520" cy="200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62480" y="1698480"/>
              <a:ext cx="1055520" cy="198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7840" y="4973400"/>
              <a:ext cx="884520" cy="341280"/>
            </a:xfrm>
            <a:custGeom>
              <a:avLst/>
              <a:gdLst/>
              <a:ahLst/>
              <a:rect l="l" t="t" r="r" b="b"/>
              <a:pathLst>
                <a:path w="2228" h="861">
                  <a:moveTo>
                    <a:pt x="0" y="861"/>
                  </a:moveTo>
                  <a:lnTo>
                    <a:pt x="0" y="503"/>
                  </a:lnTo>
                  <a:lnTo>
                    <a:pt x="2228" y="503"/>
                  </a:lnTo>
                  <a:lnTo>
                    <a:pt x="2228" y="0"/>
                  </a:lnTo>
                  <a:lnTo>
                    <a:pt x="12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0840" y="4916520"/>
              <a:ext cx="114120" cy="114120"/>
            </a:xfrm>
            <a:custGeom>
              <a:avLst/>
              <a:gdLst/>
              <a:ahLst/>
              <a:rect l="l" t="t" r="r" b="b"/>
              <a:pathLst>
                <a:path w="287" h="288">
                  <a:moveTo>
                    <a:pt x="287" y="288"/>
                  </a:moveTo>
                  <a:lnTo>
                    <a:pt x="0" y="144"/>
                  </a:lnTo>
                  <a:lnTo>
                    <a:pt x="287" y="0"/>
                  </a:lnTo>
                  <a:lnTo>
                    <a:pt x="287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16640" y="4147920"/>
              <a:ext cx="884160" cy="341280"/>
            </a:xfrm>
            <a:custGeom>
              <a:avLst/>
              <a:gdLst/>
              <a:ahLst/>
              <a:rect l="l" t="t" r="r" b="b"/>
              <a:pathLst>
                <a:path w="2228" h="861">
                  <a:moveTo>
                    <a:pt x="0" y="861"/>
                  </a:moveTo>
                  <a:lnTo>
                    <a:pt x="0" y="503"/>
                  </a:lnTo>
                  <a:lnTo>
                    <a:pt x="2228" y="503"/>
                  </a:lnTo>
                  <a:lnTo>
                    <a:pt x="2228" y="0"/>
                  </a:lnTo>
                  <a:lnTo>
                    <a:pt x="12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29280" y="4091040"/>
              <a:ext cx="114480" cy="114120"/>
            </a:xfrm>
            <a:custGeom>
              <a:avLst/>
              <a:gdLst/>
              <a:ahLst/>
              <a:rect l="l" t="t" r="r" b="b"/>
              <a:pathLst>
                <a:path w="287" h="288">
                  <a:moveTo>
                    <a:pt x="287" y="288"/>
                  </a:moveTo>
                  <a:lnTo>
                    <a:pt x="0" y="144"/>
                  </a:lnTo>
                  <a:lnTo>
                    <a:pt x="287" y="0"/>
                  </a:lnTo>
                  <a:lnTo>
                    <a:pt x="287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16640" y="3349440"/>
              <a:ext cx="884160" cy="343080"/>
            </a:xfrm>
            <a:custGeom>
              <a:avLst/>
              <a:gdLst/>
              <a:ahLst/>
              <a:rect l="l" t="t" r="r" b="b"/>
              <a:pathLst>
                <a:path w="2228" h="861">
                  <a:moveTo>
                    <a:pt x="0" y="861"/>
                  </a:moveTo>
                  <a:lnTo>
                    <a:pt x="0" y="502"/>
                  </a:lnTo>
                  <a:lnTo>
                    <a:pt x="2228" y="502"/>
                  </a:lnTo>
                  <a:lnTo>
                    <a:pt x="2228" y="0"/>
                  </a:lnTo>
                  <a:lnTo>
                    <a:pt x="12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29280" y="3294000"/>
              <a:ext cx="114480" cy="112680"/>
            </a:xfrm>
            <a:custGeom>
              <a:avLst/>
              <a:gdLst/>
              <a:ahLst/>
              <a:rect l="l" t="t" r="r" b="b"/>
              <a:pathLst>
                <a:path w="287" h="286">
                  <a:moveTo>
                    <a:pt x="287" y="286"/>
                  </a:moveTo>
                  <a:lnTo>
                    <a:pt x="0" y="144"/>
                  </a:lnTo>
                  <a:lnTo>
                    <a:pt x="287" y="0"/>
                  </a:lnTo>
                  <a:lnTo>
                    <a:pt x="287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87840" y="2552760"/>
              <a:ext cx="912960" cy="341280"/>
            </a:xfrm>
            <a:custGeom>
              <a:avLst/>
              <a:gdLst/>
              <a:ahLst/>
              <a:rect l="l" t="t" r="r" b="b"/>
              <a:pathLst>
                <a:path w="2300" h="861">
                  <a:moveTo>
                    <a:pt x="0" y="861"/>
                  </a:moveTo>
                  <a:lnTo>
                    <a:pt x="0" y="502"/>
                  </a:lnTo>
                  <a:lnTo>
                    <a:pt x="2300" y="502"/>
                  </a:lnTo>
                  <a:lnTo>
                    <a:pt x="2300" y="0"/>
                  </a:lnTo>
                  <a:lnTo>
                    <a:pt x="13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18120" y="2495520"/>
              <a:ext cx="114480" cy="114120"/>
            </a:xfrm>
            <a:custGeom>
              <a:avLst/>
              <a:gdLst/>
              <a:ahLst/>
              <a:rect l="l" t="t" r="r" b="b"/>
              <a:pathLst>
                <a:path w="287" h="286">
                  <a:moveTo>
                    <a:pt x="287" y="286"/>
                  </a:moveTo>
                  <a:lnTo>
                    <a:pt x="0" y="143"/>
                  </a:lnTo>
                  <a:lnTo>
                    <a:pt x="287" y="0"/>
                  </a:lnTo>
                  <a:lnTo>
                    <a:pt x="287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4960" y="2865240"/>
              <a:ext cx="1055880" cy="200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4960" y="3065400"/>
              <a:ext cx="1055880" cy="199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4960" y="3265200"/>
              <a:ext cx="1055880" cy="198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4960" y="3663720"/>
              <a:ext cx="1055880" cy="198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44960" y="3862440"/>
              <a:ext cx="1055880" cy="199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4960" y="4062240"/>
              <a:ext cx="1055880" cy="200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4960" y="4460760"/>
              <a:ext cx="1055880" cy="200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44960" y="4660920"/>
              <a:ext cx="1055880" cy="198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4960" y="4859280"/>
              <a:ext cx="1055880" cy="199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44960" y="5286240"/>
              <a:ext cx="1055880" cy="200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4960" y="5486400"/>
              <a:ext cx="1055880" cy="199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4960" y="5686200"/>
              <a:ext cx="1055880" cy="198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18000" y="1384200"/>
              <a:ext cx="655560" cy="684360"/>
            </a:xfrm>
            <a:custGeom>
              <a:avLst/>
              <a:gdLst/>
              <a:ahLst/>
              <a:rect l="l" t="t" r="r" b="b"/>
              <a:pathLst>
                <a:path w="1654" h="1722">
                  <a:moveTo>
                    <a:pt x="1654" y="1722"/>
                  </a:moveTo>
                  <a:lnTo>
                    <a:pt x="165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18000" y="1326960"/>
              <a:ext cx="114480" cy="11448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7"/>
                  </a:moveTo>
                  <a:lnTo>
                    <a:pt x="0" y="144"/>
                  </a:lnTo>
                  <a:lnTo>
                    <a:pt x="288" y="0"/>
                  </a:lnTo>
                  <a:lnTo>
                    <a:pt x="288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86560" y="1412640"/>
              <a:ext cx="657000" cy="684360"/>
            </a:xfrm>
            <a:custGeom>
              <a:avLst/>
              <a:gdLst/>
              <a:ahLst/>
              <a:rect l="l" t="t" r="r" b="b"/>
              <a:pathLst>
                <a:path w="1653" h="1723">
                  <a:moveTo>
                    <a:pt x="0" y="1723"/>
                  </a:moveTo>
                  <a:lnTo>
                    <a:pt x="0" y="0"/>
                  </a:lnTo>
                  <a:lnTo>
                    <a:pt x="16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29440" y="1355760"/>
              <a:ext cx="114120" cy="11412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0" y="0"/>
                  </a:moveTo>
                  <a:lnTo>
                    <a:pt x="288" y="143"/>
                  </a:lnTo>
                  <a:lnTo>
                    <a:pt x="0" y="2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44960" y="2068560"/>
              <a:ext cx="1055880" cy="199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44960" y="2268360"/>
              <a:ext cx="1055880" cy="198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44960" y="2466720"/>
              <a:ext cx="1055880" cy="200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14600" y="1263600"/>
              <a:ext cx="164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.message.priorit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83920" y="2031840"/>
              <a:ext cx="58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b.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68000" y="2232000"/>
              <a:ext cx="70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value.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54320" y="2431800"/>
              <a:ext cx="169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.message.priorit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48840" y="1292040"/>
              <a:ext cx="112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andom.e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25120" y="206028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.0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1520" y="2260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53560" y="285912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.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39960" y="3057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2000" y="365580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.6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68400" y="38541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82000" y="44528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.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68400" y="4653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53560" y="527976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39960" y="5478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1160" y="3398760"/>
              <a:ext cx="2955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f MESSAGE.PRIORITY were re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7560" y="3609720"/>
              <a:ext cx="285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value.a would become rvalue.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5040" y="4032000"/>
              <a:ext cx="398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babilities are stored a cumulative valu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2880" y="4243320"/>
              <a:ext cx="407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babilities can safely sum to 1.0 + or - .00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rbitrary Probability Distribution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878120" y="1219320"/>
            <a:ext cx="5593680" cy="4876560"/>
            <a:chOff x="1878120" y="1219320"/>
            <a:chExt cx="5593680" cy="4876560"/>
          </a:xfrm>
        </p:grpSpPr>
        <p:sp>
          <p:nvSpPr>
            <p:cNvPr id="142" name=""/>
            <p:cNvSpPr/>
            <p:nvPr/>
          </p:nvSpPr>
          <p:spPr>
            <a:xfrm>
              <a:off x="1878120" y="1219320"/>
              <a:ext cx="5333760" cy="487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95440" y="3808440"/>
              <a:ext cx="3795840" cy="1873080"/>
            </a:xfrm>
            <a:custGeom>
              <a:avLst/>
              <a:gdLst/>
              <a:ahLst/>
              <a:rect l="l" t="t" r="r" b="b"/>
              <a:pathLst>
                <a:path w="11955" h="5901">
                  <a:moveTo>
                    <a:pt x="0" y="0"/>
                  </a:moveTo>
                  <a:lnTo>
                    <a:pt x="0" y="5901"/>
                  </a:lnTo>
                  <a:lnTo>
                    <a:pt x="11955" y="59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67000" y="5630760"/>
              <a:ext cx="77760" cy="76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75160" y="5451480"/>
              <a:ext cx="75960" cy="76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14800" y="4757760"/>
              <a:ext cx="7632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02240" y="4192560"/>
              <a:ext cx="7596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62680" y="3962520"/>
              <a:ext cx="75960" cy="759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75320" y="3808440"/>
              <a:ext cx="77760" cy="76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75080" y="5699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91040" y="5699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54440" y="5699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94080" y="5699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81520" y="5699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92720" y="5699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07160" y="5699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90600" y="5519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11320" y="36972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94000" y="4013280"/>
              <a:ext cx="1793880" cy="1668240"/>
            </a:xfrm>
            <a:custGeom>
              <a:avLst/>
              <a:gdLst/>
              <a:ahLst/>
              <a:rect l="l" t="t" r="r" b="b"/>
              <a:pathLst>
                <a:path w="5654" h="5255">
                  <a:moveTo>
                    <a:pt x="0" y="5255"/>
                  </a:moveTo>
                  <a:lnTo>
                    <a:pt x="969" y="4690"/>
                  </a:lnTo>
                  <a:lnTo>
                    <a:pt x="2666" y="2506"/>
                  </a:lnTo>
                  <a:lnTo>
                    <a:pt x="4281" y="647"/>
                  </a:lnTo>
                  <a:lnTo>
                    <a:pt x="565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087880" y="3859200"/>
              <a:ext cx="51264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53200" y="1336680"/>
              <a:ext cx="68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l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53200" y="182412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,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53200" y="206856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,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53200" y="231300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,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53200" y="255744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,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53200" y="280188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53200" y="304632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,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44080" y="1336680"/>
              <a:ext cx="362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ability of Occurrence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43720" y="1825560"/>
              <a:ext cx="1406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43720" y="207000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43720" y="231444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43720" y="255744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43720" y="280368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43720" y="304632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rbitrary Probability Distribution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rbitrary Probability Distribution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four ste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eam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ermanent entities PROF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ry PROFESSION has a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ALARY.DISTRIBU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andom linear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SALARY.DISTRIBUTION as a real stream 6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6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Outside the Pream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each PROFESSION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ead SALARY.DISTRIBUTION(PROFESS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.SALARY =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ALARY.DISTRIBUTION(PROFESS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0    15000   .10   20000   .50   30000   .80   4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95   50000   1.0   60000   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7 - Simulation Contro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5 - Interrupting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r Interface Form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SIMLAB, SELECT PROBLEMD and run the model.  Stop when the user interface form appe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order to display user interface forms, first build the form with the SIMDRAW editor and save the form to a graphics.sg2 file with an  appropriate name (e.g.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“FORMNAME.FRM"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display the form, load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“FORMNAME.FRM"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initialize a pointer variable to its address.  i.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efine .FORM.PTR as a pointer vari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how .FORM.PTR with “FORMNAME.FRM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 the variable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FORM.PT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ontains the address of the form displayed on the scre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errupting Process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times one process wants to interrupt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use it to pa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empt a re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errupting Processe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cess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each .OLD.MESSAGE in the MESSAGE.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ith STATUS(.OLD.MESSAGE) = ..IN.TRANSMISSION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mpute .MIN.MSG as the minimum(.OLD.MESSAGE)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of PRIORITY(.OLD.MESSA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p ''each .OLD.MESSAGE in the MESSAGE.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f PRIORITY(.MIN.MSG) &lt; PRIORITY(MESSA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Interrupt MESSAGE called .MIN.M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ll TRANSMIT.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esume the MESSAGE called .MIN.M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if ''PRIORITY(.MIN.MSG) &lt; PRIORITY(MESSA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errupt &amp; Resum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cess being interrupted must be in the event set            (work, wait or activ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must be file interrupted process in another set because interrupt will remove the process notice from the event 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will change time.a to the time remaining until the next a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 time.a = time.a - time.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will reset time.a = time.a + time.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iles the process notice in the event 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spend &amp; Reactivate Process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f PRIORITY(.MIN.MSG) &gt;= PRIORITY(MESSA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STATUS(MESSAGE) = ..WA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le MESSAGE in MESSAGE.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usp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ll TRANSMIT.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if ''PRIORITY(.MIN.MSG) &gt;= PRIORITY(MESSA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 ''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another routine where suspended messages can be identifi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eactivate the MESSAGE n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spend &amp; Reactivate Processes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391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spe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 is a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 notice is not in event 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 notice was filed in a set before suspending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other process reactivated it -- put it back in event 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nceling Process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nquish resources and remove notice from 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ry MESSAGE has a FU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Interrupt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FUTURE(MESSAGE) = ..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et time.a(MESSAGE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esume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f FUTURE(MESSAGE) = ..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move MESSAGE from MESSAGE.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''Relinquish any resource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if ''FUTURE(MESSAGE) = ..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page is intentionally blank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ercise 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mmunications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:\Program Files\Simscript3\models\Messag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Communications Cente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located i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essage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ub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s arrive at a communications center about 15 seconds apa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a circuit is free, the message is sent.  If a circuit is not free and if the message priority is flash or immediate, the center will look for a message of lower priority and interrupt it to send the higher priority message.  The interrupted message will be retransmitted in its entire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a message cannot interrupt another message, it waits to be transmit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sure you understand how the user interface is set up.  Try improving the graphics by modifying the c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does the graph end at 30 for messages created and interrupted, but not for waiting messag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Pream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''  The Communications Center Model - CACI Products Compa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''  Demonstrates the use of Interrupt and Susp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''  Graphics version of program demonstrating trace plot, level meter, clo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''  files: MESSAGEG.SRC, MESSAGE.DAT, MENU.FRM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''         MESSAGES.GRF, BUSY.GRF, CLOCK.GR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Normally mode is undefin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The system has a MESSAGE.PRIORITY random step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    Define MESSAGE.PRIORITY as an integer stream 9 variab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    Permanent ent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     Every COMM.CENTER owns a MESSAGE.SE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    Processes inclu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          MESSAGE.GENER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9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          Every MESSAGE h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1              a PRIORIT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              a LENGTH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3              a STATUS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4              belongs to a MESSAGE.SE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6              Define PRIORITY, STATUS as integer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7              Define LENGTH as a real variab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8              Define MESSAGE.SET as a set ranked by high PRIO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9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0      Define RUN.LENGTH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1             NUMBER.BUSY.CIRCUITS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2             NUMBER.OF.MESSAGES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3             NUMBER.OF.MESSAGES.INTERRUPTE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4             TOTAL.NUMBER.OF.CIRCU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5      as integer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eracting with Form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initiate an interaction with a form, use the system function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ccept.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ept.f requires two arg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the form  (e.g.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FORM.PT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routine  (e.g.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'FORM.CTRL'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ccept.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a function, it returns a text value equal to the last terminating button Reference Name selected by the user in the form.  (Note: When the form is built, each field within the form has a Reference Nam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.FIELD.ID as a tex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FIELD.ID = accept.f (.FORM.PTR, 'FORM.CTRL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ntrol routine,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M.CTR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called by the function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ccept.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not the user.  The control routine may be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7      Define CLOCKTIME as a real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9      Display variables inclu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0          CLOCKTIM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1          NUMBER.BUSY.CIRCUITS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2          NUMBER.OF.MESSAGES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3          NUMBER.OF.MESSAGES.INTERRUPTE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4          N.MESSAGE.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6      Define ..FLASH      to mean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7      Define ..IMMEDIATE  to mean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8      Define ..PRIORITY   to mean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9      Define ..ROUTINE    to mean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0      Define ..DEFERRED   to mean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1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2      Define ..IN.TRANSMISSION to mean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3      Define ..SUSPENDED       to mean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4      Define ..INTERRUPTED     to mean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6      Define minutes to mean un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7      Define seconds to mean /60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9      Define ..TEXT.PAUSE to mean Read as / using unit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0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1  End ''Pream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Call INITIAL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Call SET.GRAPH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 Activate a MESSAGE.GENERATOR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 Start simul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 Call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..TEXT.PA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End ''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Routine INITIAL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Open unit 10 for input, name "MESSAGE.DAT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Use  unit 10 for inp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  Read MESSAGE.PRIO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 Create every COMM.CENTER(1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 Let COMM.CENTER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End ''INITIAL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533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Routine SET.GRAPH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Define .FORM  as a pointer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Define .FIELD as a text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 Show .FORM with "MENU.FRM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 Let .FIELD = accept.f(.FORM, 'FORM.CTRL'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Show CLOCKTIME with "CLOCK.GRF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    Show NUMBER.BUSY.CIRCUITS with "BUSY.GRF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Show NUMBER.OF.MESSAGES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         N.MESSAGE.SE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         NUMBER.OF.MESSAGES.INTERRUP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    with "MESSAGES.GRF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    Let .FIELD = .FIEL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      Let timesync.v  = 'CLOCK.UPDATE'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9      Let timescale.v = 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1  End ''SET.GRAPH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191120"/>
            <a:ext cx="4952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Routine CLOCK.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    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    .PROPOSED.TIME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Yiel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      .NEW.TIME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 Define .PROPOSED.TIME.V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        .NEW.TIME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as doubl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Let .NEW.TIME.V = .PROPOSED.TIME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    Let CLOCKTIME  = .PROPOSED.TIME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End  ''CLOCK.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Routine FORM.CT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Giv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    .FIELD.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      .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 Yiel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     .ST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Define .FIELD.ID as a text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    Define .FORM     as a pointer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Define .STATUS   as an integer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    Select case .FIELD.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     Case "RUN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            Let TOTAL.NUMBER.OF.CIRCUITS = ddval.a(dfield.f("CIRCUITS", .FORM)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            Let RUN.LENGTH = int.f(ddval.a(dfield.f("RUN LENGTH", .FORM))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              Retur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9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          Case "QUIT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1              S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3          Defaul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5      Endselect ''.FIELD.I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7      Let .STATUS = .ST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9  End ''FORM.CT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Process MESSAGE.GENER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Until time.v &gt;= RUN.LENGT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   Activate a MESSAGE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   Let PRIORITY(MESSAGE) = MESSAGE.PRIO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   Let LENGTH(MESSAGE) = uniform.f(.25, 4.0,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  File MESSAGE in the MESSAGE.SET(COMM.C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  Add 1 to NUMBER.OF.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      Wait exponential.f(15, 2) sec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 Loop ''time.v &gt;= RUN.LENG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End ''MESSAGE.GENER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Process MESS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Define .MIN.MSG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       .OLD.MESSAGE as pointer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 If NUMBER.BUSY.CIRCUITS &lt; TOTAL.NUMBER.OF.CIRCU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     Call TRANSMIT.MESS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        Giv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                MESSA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El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         For each .OLD.MESSAGE in the MESSAGE.SET(COMM.C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             with STATUS(.OLD.MESSAGE) = ..IN.TRANSMIS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      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             Compute .MIN.MSG as the minimum(.OLD.MESSAGE) of PRIORITY(.OLD.MESSAGE)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         Loop ''each .MSG in the MESSAGE.SET(COMM.C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9          If PRIORITY(MESSAGE) &gt;= ..IMMEDIATE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             PRIORITY(.MIN.MSG) &lt; PRIORITY(MESS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1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               Let STATUS(.MIN.MSG) = ..INTERRUP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3               Interrupt MESSAGE called .MIN.MS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4               Add 1 to NUMBER.OF.MESSAGES.INTERRUP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5               Subtract 1 from NUMBER.BUSY.CIRCU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6               Let time.a(.MIN.MSG) = LENGTH(.MIN.MS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7               Call TRANSMIT.MESS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8                   Giv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9                       MESSA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0           E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1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2               Let STATUS(MESSAGE) = ..SUSPEN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3               Susp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4               Call TRANSMIT.MESS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5                   Giv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6                       MESS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7           End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2120" y="609480"/>
            <a:ext cx="731520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9      Endif ''NUMBER.BUSY.CIRCUITS &lt; TOTAL.NUMBER.OF.CIRCU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1  End ''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Routine TRANSMIT.MESS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    Giv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    .NEW.MESSA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  Define .NUMBER.CIRCUITS as an integer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 Define .NEW.MESSAG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        .OLD.MESSAGE as pointer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    Add 1 to NUMBER.BUSY.CIRCU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Let STATUS(.NEW.MESSAGE)  = ..IN.TRANSM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    Wait LENGTH(.NEW.MESSAGE)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    Subtract 1 from NUMBER.BUSY.CIRCU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 Remove .NEW.MESSAGE from the MESSAGE.SET(COMM.C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    Let .NUMBER.CIRCUITS = NUMBER.BUSY.CIRCU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14400" y="196920"/>
            <a:ext cx="7772400" cy="48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9      For each .OLD.MESSAGE in the MESSAGE.SET(COMM.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          with STATUS(.OLD.MESSAGE) not equal to ..IN.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1          while .NUMBER.CIRCUITS &lt; TOTAL.NUMBER.OF.CIRCUITS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3          Select case STATUS(.OLD.MESS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4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5              Case ..SUSP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6                  Reactivate the MESSAGE called .OLD.MESSAGE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7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8              Case ..INTERRU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9                  Resume the MESSAGE called .OLD.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0                  Add 1 to NUMBER.BUSY.CIRCU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1                  Let STATUS(.OLD.MESSAGE) = ..IN.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3             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4          Endselect ''STATUS(.OLD.MESS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5          Add 1 to .NUMBER.CIRCU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6      Loop ''each .OLD.MESSAGE in the MESSAGE.SET(COMM.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7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8  End ''TRANSMIT.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Routine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Print 5 lines with NUMBER.OF.MESSAGES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                   TOTAL.NUMBER.OF.CIRCUITS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                     RUN.LENGTH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                    NUMBER.OF.MESSAGES.INTERRUPTED th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*** messages were generated for a message center with ** circu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uring a period of ** minu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*** messages were interrup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End ''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cessing Values in the Form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access the values in a form, use the system function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field.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field.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requires two arg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Name  (e.g.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"RUN LENGTH"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form   (e.g.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FORM.PT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field.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a function, it returns a pointer value equal to the address of the fields within the fo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ine .FIELD.PTR as a pointer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FIELD.PTR = dfield.f("RUN LENGTH", .FORM.PT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the pointer,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FIELD.PT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can be used as a subscript to gain access to the attributes of the field,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RUN LENGTH"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10400" cy="50324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Communications Cente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eld Attribu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access the field values, use the field attribu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dval.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eric value associated with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FIELD.PT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tval.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 value associated with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FIELD.PT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ary.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y pointer associated with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FIELD.PT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FIELD.PTR = dfield.f("RUN LENGTH", .FORM.PT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.LENGTH = ddval.a(.FIELD.PT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.LENGTH = ddval.a(dfield.f("RUN LENGTH", .FORM.PTR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Routine INITIAL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Define .FORM  as a pointer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Define .FIELD as a text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''  Display the form and get run data from the us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Show .FORM with "INPUT.FRM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Let  .FIELD = accept.f(.FORM, 'FORM.CTRL'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''  Create the tug and d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    Create every TUG(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      Let U.TUG(1) = NBR.TU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 Create every DOCK(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      Let U.DOCK(1) = NBR.D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  ''  Warning elimi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9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Let .FIELD = .FIE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1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  End ''INITIAL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Routine FORM.CT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Giv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4 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.FIEL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5 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.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6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Yiel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7 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.ST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  ''  Control routine for the input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Define .FORM  as a pointer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Define .FIELD as a text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Define .STATUS as an integer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5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Select case .FIE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7 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Case "RUN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     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Let RUN.LENGTH  = ddval.a(dfield.f("RUN LENGTH",  .FORM)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9     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Let NBR.DOCKS   =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     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Let NBR.TUGS   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1     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Retur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3 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Case "QUIT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4   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 S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6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Defaul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8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Endselect ''.FIE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0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''  Warning elimi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1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Let .STATUS = .ST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33  End ''FORM.CT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7 - Simulation Contro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 - Effici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09T17:41:16Z</dcterms:created>
  <dc:creator>Jeffry Gene Jones</dc:creator>
  <dc:description/>
  <dc:language>en-US</dc:language>
  <cp:lastModifiedBy>jprince</cp:lastModifiedBy>
  <cp:lastPrinted>1999-03-31T17:07:15Z</cp:lastPrinted>
  <dcterms:modified xsi:type="dcterms:W3CDTF">2004-11-05T20:47:43Z</dcterms:modified>
  <cp:revision>86</cp:revision>
  <dc:subject/>
  <dc:title>Day 4 - Advanced Topics</dc:title>
</cp:coreProperties>
</file>